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0158413" cy="12244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50BC4-D81A-4753-B9D1-E73455BD7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85588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707652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67412-6CC2-4393-844F-D4AB6DF46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8B97-7020-45EB-BF6F-8BAC9F486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101ED-05B9-4F8C-A8F2-9A0C17B6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855880"/>
            <a:ext cx="9144000" cy="808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4340-0BB5-4B7F-B074-FBE4FD5F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855880"/>
            <a:ext cx="91440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5736-B304-437B-8F92-B1789E19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D27DB-6088-4D0C-B6AE-FA4402BB2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5EDEF-21B9-4A90-95BB-68C2470A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90680"/>
            <a:ext cx="9144000" cy="94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8E057-D05D-44F6-80F1-E4BE8582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A5D1-5A4C-44CA-8FEA-FDBC49F4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175E2-0149-4589-8206-7502B970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707652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0260-766C-4F1F-931D-0843A60F3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855880"/>
            <a:ext cx="9144000" cy="8080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1347560"/>
            <a:ext cx="2370240" cy="65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1347560"/>
            <a:ext cx="321624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1347560"/>
            <a:ext cx="2370240" cy="65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2DE-2447-45F9-8EDD-20264DB433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165240" y="165240"/>
            <a:ext cx="78483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u="sng">
                <a:solidFill>
                  <a:srgbClr val="800080"/>
                </a:solidFill>
                <a:uFillTx/>
                <a:latin typeface="Comic Sans MS - 36"/>
              </a:rPr>
              <a:t>Chapter 12: Working With Data</a:t>
            </a:r>
            <a:endParaRPr b="0" lang="en-US" sz="3500" spc="-1" strike="noStrike">
              <a:solidFill>
                <a:srgbClr val="000000"/>
              </a:solidFill>
              <a:latin typeface="Calibri"/>
            </a:endParaRPr>
          </a:p>
        </p:txBody>
      </p:sp>
      <p:sp>
        <p:nvSpPr>
          <p:cNvPr id="42" name="TextBox 2"/>
          <p:cNvSpPr/>
          <p:nvPr/>
        </p:nvSpPr>
        <p:spPr>
          <a:xfrm>
            <a:off x="88920" y="1066680"/>
            <a:ext cx="10032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What You Will Lear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determine the centre of a set of data in several way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identify unusual values in a set of d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decide when an unusual value should be included when measuring the centre of a set of d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choose the best measure of a set of data</a:t>
            </a:r>
            <a:endParaRPr b="0" lang="en-US" sz="3600" spc="-1" strike="noStrike">
              <a:solidFill>
                <a:srgbClr val="000000"/>
              </a:solidFill>
              <a:latin typeface="Calibri"/>
            </a:endParaRPr>
          </a:p>
        </p:txBody>
      </p:sp>
      <p:sp>
        <p:nvSpPr>
          <p:cNvPr id="43" name="TextBox 3"/>
          <p:cNvSpPr/>
          <p:nvPr/>
        </p:nvSpPr>
        <p:spPr>
          <a:xfrm>
            <a:off x="88920" y="6566040"/>
            <a:ext cx="716292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US" sz="3500" spc="-1" strike="noStrike">
                <a:solidFill>
                  <a:srgbClr val="800080"/>
                </a:solidFill>
                <a:latin typeface="Comic Sans MS - 36"/>
              </a:rPr>
              <a:t>measure of central tendency</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edia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ode</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ea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range</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outlier</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152280" y="0"/>
            <a:ext cx="581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1: Calculate the Mean</a:t>
            </a:r>
            <a:endParaRPr b="0" lang="en-US" sz="3600" spc="-1" strike="noStrike">
              <a:solidFill>
                <a:srgbClr val="000000"/>
              </a:solidFill>
              <a:latin typeface="Calibri"/>
            </a:endParaRPr>
          </a:p>
        </p:txBody>
      </p:sp>
      <p:sp>
        <p:nvSpPr>
          <p:cNvPr id="82" name="TextBox 2"/>
          <p:cNvSpPr/>
          <p:nvPr/>
        </p:nvSpPr>
        <p:spPr>
          <a:xfrm>
            <a:off x="241200" y="749160"/>
            <a:ext cx="523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daily sales at More Movies for the first week after the BluRay release of </a:t>
            </a:r>
            <a:r>
              <a:rPr b="0" i="1" lang="en-CA" sz="2400" spc="-1" strike="noStrike">
                <a:solidFill>
                  <a:srgbClr val="800080"/>
                </a:solidFill>
                <a:latin typeface="Comic Sans MS - 24"/>
              </a:rPr>
              <a:t>The Threat of the Brain Snatchers</a:t>
            </a:r>
            <a:r>
              <a:rPr b="0" lang="en-CA" sz="2400" spc="-1" strike="noStrike">
                <a:solidFill>
                  <a:srgbClr val="800080"/>
                </a:solidFill>
                <a:latin typeface="Comic Sans MS - 24"/>
              </a:rPr>
              <a:t> are shown in the table.</a:t>
            </a:r>
            <a:endParaRPr b="0" lang="en-US" sz="2400" spc="-1" strike="noStrike">
              <a:solidFill>
                <a:srgbClr val="000000"/>
              </a:solidFill>
              <a:latin typeface="Calibri"/>
            </a:endParaRPr>
          </a:p>
        </p:txBody>
      </p:sp>
      <p:graphicFrame>
        <p:nvGraphicFramePr>
          <p:cNvPr id="83" name=""/>
          <p:cNvGraphicFramePr/>
          <p:nvPr/>
        </p:nvGraphicFramePr>
        <p:xfrm>
          <a:off x="6159600" y="266760"/>
          <a:ext cx="3327480" cy="3568680"/>
        </p:xfrm>
        <a:graphic>
          <a:graphicData uri="http://schemas.openxmlformats.org/drawingml/2006/table">
            <a:tbl>
              <a:tblPr/>
              <a:tblGrid>
                <a:gridCol w="1650960"/>
                <a:gridCol w="16765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Daily Sa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4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u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90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Wedn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8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9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1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Satur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2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bl>
          </a:graphicData>
        </a:graphic>
      </p:graphicFrame>
      <p:sp>
        <p:nvSpPr>
          <p:cNvPr id="84" name="TextBox 4"/>
          <p:cNvSpPr/>
          <p:nvPr/>
        </p:nvSpPr>
        <p:spPr>
          <a:xfrm>
            <a:off x="228600" y="295920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daily </a:t>
            </a:r>
            <a:r>
              <a:rPr b="0" lang="en-CA" sz="2400" spc="-1" strike="noStrike" u="sng">
                <a:solidFill>
                  <a:srgbClr val="800080"/>
                </a:solidFill>
                <a:uFillTx/>
                <a:latin typeface="Comic Sans MS - 24"/>
              </a:rPr>
              <a:t>mean</a:t>
            </a:r>
            <a:r>
              <a:rPr b="0" lang="en-CA" sz="2400" spc="-1" strike="noStrike">
                <a:solidFill>
                  <a:srgbClr val="800080"/>
                </a:solidFill>
                <a:latin typeface="Comic Sans MS - 24"/>
              </a:rPr>
              <a:t> number of sales from Monday to Saturda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How many sales will be needed on Sunday if More Movies hopes to have a daily mean of 100 sales for the first wee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1"/>
          <p:cNvSpPr/>
          <p:nvPr/>
        </p:nvSpPr>
        <p:spPr>
          <a:xfrm>
            <a:off x="88920" y="63360"/>
            <a:ext cx="916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Use the Mean to Make Predictions</a:t>
            </a:r>
            <a:endParaRPr b="0" lang="en-US" sz="3600" spc="-1" strike="noStrike">
              <a:solidFill>
                <a:srgbClr val="000000"/>
              </a:solidFill>
              <a:latin typeface="Calibri"/>
            </a:endParaRPr>
          </a:p>
        </p:txBody>
      </p:sp>
      <p:sp>
        <p:nvSpPr>
          <p:cNvPr id="86" name="TextBox 2"/>
          <p:cNvSpPr/>
          <p:nvPr/>
        </p:nvSpPr>
        <p:spPr>
          <a:xfrm>
            <a:off x="88920" y="80028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scientist recorded the daily distance travelled by a spawning salmon five days in a row.</a:t>
            </a:r>
            <a:endParaRPr b="0" lang="en-US" sz="2400" spc="-1" strike="noStrike">
              <a:solidFill>
                <a:srgbClr val="000000"/>
              </a:solidFill>
              <a:latin typeface="Calibri"/>
            </a:endParaRPr>
          </a:p>
        </p:txBody>
      </p:sp>
      <p:graphicFrame>
        <p:nvGraphicFramePr>
          <p:cNvPr id="87" name=""/>
          <p:cNvGraphicFramePr/>
          <p:nvPr/>
        </p:nvGraphicFramePr>
        <p:xfrm>
          <a:off x="5295960" y="965160"/>
          <a:ext cx="4279680" cy="3289320"/>
        </p:xfrm>
        <a:graphic>
          <a:graphicData uri="http://schemas.openxmlformats.org/drawingml/2006/table">
            <a:tbl>
              <a:tblPr/>
              <a:tblGrid>
                <a:gridCol w="1587600"/>
                <a:gridCol w="2692080"/>
              </a:tblGrid>
              <a:tr h="7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istance Travelled (km)</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u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Wedn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bl>
          </a:graphicData>
        </a:graphic>
      </p:graphicFrame>
      <p:sp>
        <p:nvSpPr>
          <p:cNvPr id="88" name="TextBox 4"/>
          <p:cNvSpPr/>
          <p:nvPr/>
        </p:nvSpPr>
        <p:spPr>
          <a:xfrm>
            <a:off x="63360" y="2209680"/>
            <a:ext cx="97282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mean distance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ravelled by the salmon each da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How far would you expect the salmon to travel in the next ten days?  Assume the salmon has not yet reached its spawning destin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A Chinook salmon may travel 8000 km from its feeding grounds in the North Pacific Ocean!  How many days would you predict this journey to take based on the mean daily travel distance you calculated in part 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96880" y="216000"/>
            <a:ext cx="8636040" cy="58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CA" sz="3100" spc="-1" strike="noStrike">
                <a:solidFill>
                  <a:srgbClr val="800080"/>
                </a:solidFill>
                <a:latin typeface="Comic Sans MS - 32"/>
              </a:rPr>
              <a:t>To calculate the mean, add all the numbers in the set of data and then divide by the number of numbers.</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a:t>
            </a:r>
            <a:r>
              <a:rPr b="0" lang="en-CA" sz="3100" spc="-1" strike="noStrike">
                <a:solidFill>
                  <a:srgbClr val="800080"/>
                </a:solidFill>
                <a:latin typeface="Comic Sans MS - 32"/>
              </a:rPr>
              <a:t>The mean does not have to be a number in the set of data</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Ex: </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Mean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u="sng">
                <a:solidFill>
                  <a:srgbClr val="800080"/>
                </a:solidFill>
                <a:uFillTx/>
                <a:latin typeface="Comic Sans MS - 32"/>
              </a:rPr>
              <a:t>4 + 6 + 8 + 10 + 6 + 7 + 15</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800080"/>
                </a:solidFill>
                <a:uFillTx/>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7</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u="sng">
                <a:solidFill>
                  <a:srgbClr val="800080"/>
                </a:solidFill>
                <a:uFillTx/>
                <a:latin typeface="Comic Sans MS - 32"/>
              </a:rPr>
              <a:t>56</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800080"/>
                </a:solidFill>
                <a:uFillTx/>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7</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Box 1"/>
          <p:cNvSpPr/>
          <p:nvPr/>
        </p:nvSpPr>
        <p:spPr>
          <a:xfrm>
            <a:off x="317520" y="431640"/>
            <a:ext cx="726444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Assignment: </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800080"/>
                </a:solidFill>
                <a:latin typeface="Comic Sans MS - 32"/>
              </a:rPr>
              <a:t>p. 431 # 1-3, 5, 7, 10, 11, Math Link</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Still Good? # 9, 12-14</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Pro Star? # 15-16</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114480" y="8892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12.3 Range and Outliers</a:t>
            </a:r>
            <a:endParaRPr b="0" lang="en-US" sz="3600" spc="-1" strike="noStrike">
              <a:solidFill>
                <a:srgbClr val="000000"/>
              </a:solidFill>
              <a:latin typeface="Calibri"/>
            </a:endParaRPr>
          </a:p>
        </p:txBody>
      </p:sp>
      <p:sp>
        <p:nvSpPr>
          <p:cNvPr id="92" name="TextBox 2"/>
          <p:cNvSpPr/>
          <p:nvPr/>
        </p:nvSpPr>
        <p:spPr>
          <a:xfrm>
            <a:off x="190440" y="888840"/>
            <a:ext cx="61977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determine the range for the data se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dentify outliers in data sets</a:t>
            </a:r>
            <a:endParaRPr b="0" lang="en-US" sz="2300" spc="-1" strike="noStrike">
              <a:solidFill>
                <a:srgbClr val="000000"/>
              </a:solidFill>
              <a:latin typeface="Calibri"/>
            </a:endParaRPr>
          </a:p>
        </p:txBody>
      </p:sp>
      <p:sp>
        <p:nvSpPr>
          <p:cNvPr id="93" name="TextBox 3"/>
          <p:cNvSpPr/>
          <p:nvPr/>
        </p:nvSpPr>
        <p:spPr>
          <a:xfrm>
            <a:off x="114480" y="2451240"/>
            <a:ext cx="1005840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R</a:t>
            </a:r>
            <a:r>
              <a:rPr b="0" lang="en-US" sz="2700" spc="-1" strike="noStrike">
                <a:solidFill>
                  <a:srgbClr val="800080"/>
                </a:solidFill>
                <a:latin typeface="Comic Sans MS - 28"/>
              </a:rPr>
              <a:t>ange:</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t>
            </a:r>
            <a:r>
              <a:rPr b="0" lang="en-CA" sz="2300" spc="-1" strike="noStrike">
                <a:solidFill>
                  <a:srgbClr val="800080"/>
                </a:solidFill>
                <a:latin typeface="Comic Sans MS - 24"/>
              </a:rPr>
              <a:t>the positive difference  between the largest and smallest values in a data se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Ou</a:t>
            </a:r>
            <a:r>
              <a:rPr b="0" lang="en-US" sz="2700" spc="-1" strike="noStrike">
                <a:solidFill>
                  <a:srgbClr val="800080"/>
                </a:solidFill>
                <a:latin typeface="Comic Sans MS - 28"/>
              </a:rPr>
              <a:t>tlier:</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t>
            </a:r>
            <a:r>
              <a:rPr b="0" lang="en-CA" sz="2300" spc="-1" strike="noStrike">
                <a:solidFill>
                  <a:srgbClr val="800080"/>
                </a:solidFill>
                <a:latin typeface="Comic Sans MS - 24"/>
              </a:rPr>
              <a:t>a value that is much smaller </a:t>
            </a:r>
            <a:r>
              <a:rPr b="0" i="1" lang="en-CA" sz="2300" spc="-1" strike="noStrike">
                <a:solidFill>
                  <a:srgbClr val="800080"/>
                </a:solidFill>
                <a:latin typeface="Comic Sans MS - 24"/>
              </a:rPr>
              <a:t>or</a:t>
            </a:r>
            <a:r>
              <a:rPr b="0" lang="en-CA" sz="2300" spc="-1" strike="noStrike">
                <a:solidFill>
                  <a:srgbClr val="800080"/>
                </a:solidFill>
                <a:latin typeface="Comic Sans MS - 24"/>
              </a:rPr>
              <a:t> larger than the other data valu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a data set may have one or more outliers or no outlie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Box 1"/>
          <p:cNvSpPr/>
          <p:nvPr/>
        </p:nvSpPr>
        <p:spPr>
          <a:xfrm>
            <a:off x="76320" y="38160"/>
            <a:ext cx="1008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800080"/>
                </a:solidFill>
                <a:uFillTx/>
                <a:latin typeface="Comic Sans MS - 28"/>
              </a:rPr>
              <a:t>How can the largest and smallest values be used to describe a set of data?</a:t>
            </a:r>
            <a:endParaRPr b="0" lang="en-US" sz="2800" spc="-1" strike="noStrike">
              <a:solidFill>
                <a:srgbClr val="000000"/>
              </a:solidFill>
              <a:latin typeface="Calibri"/>
            </a:endParaRPr>
          </a:p>
        </p:txBody>
      </p:sp>
      <p:sp>
        <p:nvSpPr>
          <p:cNvPr id="95" name="TextBox 2"/>
          <p:cNvSpPr/>
          <p:nvPr/>
        </p:nvSpPr>
        <p:spPr>
          <a:xfrm>
            <a:off x="50760" y="1231920"/>
            <a:ext cx="97534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he following diagram shows the elevation changes for the Stomach Bender roller coaster.  The measurements represent the heights of the roller coaster relative to the starting point of the ride.</a:t>
            </a:r>
            <a:endParaRPr b="0" lang="en-US" sz="2300" spc="-1" strike="noStrike">
              <a:solidFill>
                <a:srgbClr val="000000"/>
              </a:solidFill>
              <a:latin typeface="Calibri"/>
            </a:endParaRPr>
          </a:p>
        </p:txBody>
      </p:sp>
      <p:grpSp>
        <p:nvGrpSpPr>
          <p:cNvPr id="96" name="Group 22"/>
          <p:cNvGrpSpPr/>
          <p:nvPr/>
        </p:nvGrpSpPr>
        <p:grpSpPr>
          <a:xfrm>
            <a:off x="25560" y="2768760"/>
            <a:ext cx="9943920" cy="4267440"/>
            <a:chOff x="25560" y="2768760"/>
            <a:chExt cx="9943920" cy="4267440"/>
          </a:xfrm>
        </p:grpSpPr>
        <p:sp>
          <p:nvSpPr>
            <p:cNvPr id="97" name="Straight Connector 3"/>
            <p:cNvSpPr/>
            <p:nvPr/>
          </p:nvSpPr>
          <p:spPr>
            <a:xfrm>
              <a:off x="914400" y="5156640"/>
              <a:ext cx="8128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TextBox 4"/>
            <p:cNvSpPr/>
            <p:nvPr/>
          </p:nvSpPr>
          <p:spPr>
            <a:xfrm>
              <a:off x="25560" y="4813560"/>
              <a:ext cx="83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Star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0 m</a:t>
              </a:r>
              <a:endParaRPr b="0" lang="en-US" sz="1600" spc="-1" strike="noStrike">
                <a:solidFill>
                  <a:srgbClr val="000000"/>
                </a:solidFill>
                <a:latin typeface="Calibri"/>
              </a:endParaRPr>
            </a:p>
          </p:txBody>
        </p:sp>
        <p:sp>
          <p:nvSpPr>
            <p:cNvPr id="99" name="TextBox 5"/>
            <p:cNvSpPr/>
            <p:nvPr/>
          </p:nvSpPr>
          <p:spPr>
            <a:xfrm>
              <a:off x="9283680" y="4800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0 m</a:t>
              </a:r>
              <a:endParaRPr b="0" lang="en-US" sz="1600" spc="-1" strike="noStrike">
                <a:solidFill>
                  <a:srgbClr val="000000"/>
                </a:solidFill>
                <a:latin typeface="Calibri"/>
              </a:endParaRPr>
            </a:p>
          </p:txBody>
        </p:sp>
        <p:sp>
          <p:nvSpPr>
            <p:cNvPr id="100" name="Freeform 6"/>
            <p:cNvSpPr/>
            <p:nvPr/>
          </p:nvSpPr>
          <p:spPr>
            <a:xfrm>
              <a:off x="914400" y="3149640"/>
              <a:ext cx="8140680" cy="3429360"/>
            </a:xfrm>
            <a:custGeom>
              <a:avLst/>
              <a:gdLst>
                <a:gd name="textAreaLeft" fmla="*/ 0 w 8140680"/>
                <a:gd name="textAreaRight" fmla="*/ 8141040 w 8140680"/>
                <a:gd name="textAreaTop" fmla="*/ 0 h 3429360"/>
                <a:gd name="textAreaBottom" fmla="*/ 3429720 h 3429360"/>
              </a:gdLst>
              <a:ahLst/>
              <a:rect l="textAreaLeft" t="textAreaTop" r="textAreaRight" b="textAreaBottom"/>
              <a:pathLst>
                <a:path w="8140701" h="3429001">
                  <a:moveTo>
                    <a:pt x="0" y="1968500"/>
                  </a:moveTo>
                  <a:lnTo>
                    <a:pt x="6350" y="1974850"/>
                  </a:lnTo>
                  <a:lnTo>
                    <a:pt x="10160" y="1976120"/>
                  </a:lnTo>
                  <a:lnTo>
                    <a:pt x="13969" y="1974850"/>
                  </a:lnTo>
                  <a:lnTo>
                    <a:pt x="17780" y="1972309"/>
                  </a:lnTo>
                  <a:lnTo>
                    <a:pt x="22860" y="1972309"/>
                  </a:lnTo>
                  <a:lnTo>
                    <a:pt x="59689" y="1979929"/>
                  </a:lnTo>
                  <a:lnTo>
                    <a:pt x="250189" y="1981200"/>
                  </a:lnTo>
                  <a:lnTo>
                    <a:pt x="256539" y="1979929"/>
                  </a:lnTo>
                  <a:lnTo>
                    <a:pt x="267969" y="1974850"/>
                  </a:lnTo>
                  <a:lnTo>
                    <a:pt x="273050" y="1973579"/>
                  </a:lnTo>
                  <a:lnTo>
                    <a:pt x="278130" y="1974850"/>
                  </a:lnTo>
                  <a:lnTo>
                    <a:pt x="283210" y="1977390"/>
                  </a:lnTo>
                  <a:lnTo>
                    <a:pt x="287019" y="1977390"/>
                  </a:lnTo>
                  <a:lnTo>
                    <a:pt x="292100" y="1976120"/>
                  </a:lnTo>
                  <a:lnTo>
                    <a:pt x="295910" y="1973579"/>
                  </a:lnTo>
                  <a:lnTo>
                    <a:pt x="308610" y="1971040"/>
                  </a:lnTo>
                  <a:lnTo>
                    <a:pt x="397510" y="1967229"/>
                  </a:lnTo>
                  <a:lnTo>
                    <a:pt x="431800" y="1958340"/>
                  </a:lnTo>
                  <a:lnTo>
                    <a:pt x="685800" y="1955800"/>
                  </a:lnTo>
                  <a:lnTo>
                    <a:pt x="694689" y="1955800"/>
                  </a:lnTo>
                  <a:lnTo>
                    <a:pt x="701039" y="1957070"/>
                  </a:lnTo>
                  <a:lnTo>
                    <a:pt x="718820" y="1964690"/>
                  </a:lnTo>
                  <a:lnTo>
                    <a:pt x="734060" y="1967229"/>
                  </a:lnTo>
                  <a:lnTo>
                    <a:pt x="750570" y="1963420"/>
                  </a:lnTo>
                  <a:lnTo>
                    <a:pt x="758189" y="1960879"/>
                  </a:lnTo>
                  <a:lnTo>
                    <a:pt x="764539" y="1960879"/>
                  </a:lnTo>
                  <a:lnTo>
                    <a:pt x="770889" y="1962150"/>
                  </a:lnTo>
                  <a:lnTo>
                    <a:pt x="775970" y="1964690"/>
                  </a:lnTo>
                  <a:lnTo>
                    <a:pt x="797560" y="1967229"/>
                  </a:lnTo>
                  <a:lnTo>
                    <a:pt x="905510" y="1969770"/>
                  </a:lnTo>
                  <a:lnTo>
                    <a:pt x="939800" y="1978659"/>
                  </a:lnTo>
                  <a:lnTo>
                    <a:pt x="966470" y="1981200"/>
                  </a:lnTo>
                  <a:lnTo>
                    <a:pt x="971550" y="1982470"/>
                  </a:lnTo>
                  <a:lnTo>
                    <a:pt x="1007110" y="2001520"/>
                  </a:lnTo>
                  <a:lnTo>
                    <a:pt x="1023620" y="2006600"/>
                  </a:lnTo>
                  <a:lnTo>
                    <a:pt x="1036320" y="2016759"/>
                  </a:lnTo>
                  <a:lnTo>
                    <a:pt x="1045210" y="2024379"/>
                  </a:lnTo>
                  <a:lnTo>
                    <a:pt x="1051560" y="2026920"/>
                  </a:lnTo>
                  <a:lnTo>
                    <a:pt x="1071879" y="2032000"/>
                  </a:lnTo>
                  <a:lnTo>
                    <a:pt x="1082039" y="2038350"/>
                  </a:lnTo>
                  <a:lnTo>
                    <a:pt x="1096010" y="2049779"/>
                  </a:lnTo>
                  <a:lnTo>
                    <a:pt x="1102360" y="2052320"/>
                  </a:lnTo>
                  <a:lnTo>
                    <a:pt x="1121410" y="2057400"/>
                  </a:lnTo>
                  <a:lnTo>
                    <a:pt x="1132839" y="2063750"/>
                  </a:lnTo>
                  <a:lnTo>
                    <a:pt x="1146810" y="2075179"/>
                  </a:lnTo>
                  <a:lnTo>
                    <a:pt x="1151889" y="2077720"/>
                  </a:lnTo>
                  <a:lnTo>
                    <a:pt x="1172210" y="2082800"/>
                  </a:lnTo>
                  <a:lnTo>
                    <a:pt x="1183639" y="2089150"/>
                  </a:lnTo>
                  <a:lnTo>
                    <a:pt x="1197610" y="2100579"/>
                  </a:lnTo>
                  <a:lnTo>
                    <a:pt x="1202689" y="2103120"/>
                  </a:lnTo>
                  <a:lnTo>
                    <a:pt x="1223010" y="2108200"/>
                  </a:lnTo>
                  <a:lnTo>
                    <a:pt x="1234439" y="2114550"/>
                  </a:lnTo>
                  <a:lnTo>
                    <a:pt x="1252220" y="2128520"/>
                  </a:lnTo>
                  <a:lnTo>
                    <a:pt x="1281429" y="2139950"/>
                  </a:lnTo>
                  <a:lnTo>
                    <a:pt x="1285239" y="2143759"/>
                  </a:lnTo>
                  <a:lnTo>
                    <a:pt x="1289050" y="2147570"/>
                  </a:lnTo>
                  <a:lnTo>
                    <a:pt x="1291589" y="2151379"/>
                  </a:lnTo>
                  <a:lnTo>
                    <a:pt x="1300479" y="2159000"/>
                  </a:lnTo>
                  <a:lnTo>
                    <a:pt x="1308100" y="2162809"/>
                  </a:lnTo>
                  <a:lnTo>
                    <a:pt x="1322070" y="2167890"/>
                  </a:lnTo>
                  <a:lnTo>
                    <a:pt x="1355089" y="2170429"/>
                  </a:lnTo>
                  <a:lnTo>
                    <a:pt x="1361439" y="2174240"/>
                  </a:lnTo>
                  <a:lnTo>
                    <a:pt x="1367789" y="2179320"/>
                  </a:lnTo>
                  <a:lnTo>
                    <a:pt x="1372870" y="2184400"/>
                  </a:lnTo>
                  <a:lnTo>
                    <a:pt x="1377950" y="2189479"/>
                  </a:lnTo>
                  <a:lnTo>
                    <a:pt x="1419860" y="2211070"/>
                  </a:lnTo>
                  <a:lnTo>
                    <a:pt x="1424939" y="2214879"/>
                  </a:lnTo>
                  <a:lnTo>
                    <a:pt x="1431289" y="2217420"/>
                  </a:lnTo>
                  <a:lnTo>
                    <a:pt x="1451610" y="2222500"/>
                  </a:lnTo>
                  <a:lnTo>
                    <a:pt x="1489710" y="2242820"/>
                  </a:lnTo>
                  <a:lnTo>
                    <a:pt x="1506220" y="2247900"/>
                  </a:lnTo>
                  <a:lnTo>
                    <a:pt x="1518920" y="2258059"/>
                  </a:lnTo>
                  <a:lnTo>
                    <a:pt x="1527810" y="2265679"/>
                  </a:lnTo>
                  <a:lnTo>
                    <a:pt x="1534160" y="2268220"/>
                  </a:lnTo>
                  <a:lnTo>
                    <a:pt x="1570989" y="2279650"/>
                  </a:lnTo>
                  <a:lnTo>
                    <a:pt x="1596389" y="2293620"/>
                  </a:lnTo>
                  <a:lnTo>
                    <a:pt x="1610360" y="2296159"/>
                  </a:lnTo>
                  <a:lnTo>
                    <a:pt x="1616710" y="2299970"/>
                  </a:lnTo>
                  <a:lnTo>
                    <a:pt x="1628139" y="2311400"/>
                  </a:lnTo>
                  <a:lnTo>
                    <a:pt x="1634489" y="2315209"/>
                  </a:lnTo>
                  <a:lnTo>
                    <a:pt x="1661160" y="2326640"/>
                  </a:lnTo>
                  <a:lnTo>
                    <a:pt x="1686560" y="2341879"/>
                  </a:lnTo>
                  <a:lnTo>
                    <a:pt x="1699260" y="2345690"/>
                  </a:lnTo>
                  <a:lnTo>
                    <a:pt x="1710689" y="2349500"/>
                  </a:lnTo>
                  <a:lnTo>
                    <a:pt x="1731010" y="2359659"/>
                  </a:lnTo>
                  <a:lnTo>
                    <a:pt x="1742439" y="2367279"/>
                  </a:lnTo>
                  <a:lnTo>
                    <a:pt x="1748789" y="2369820"/>
                  </a:lnTo>
                  <a:lnTo>
                    <a:pt x="1769110" y="2374900"/>
                  </a:lnTo>
                  <a:lnTo>
                    <a:pt x="1780539" y="2381250"/>
                  </a:lnTo>
                  <a:lnTo>
                    <a:pt x="1794510" y="2392679"/>
                  </a:lnTo>
                  <a:lnTo>
                    <a:pt x="1799589" y="2395220"/>
                  </a:lnTo>
                  <a:lnTo>
                    <a:pt x="1819910" y="2400300"/>
                  </a:lnTo>
                  <a:lnTo>
                    <a:pt x="1836420" y="2409190"/>
                  </a:lnTo>
                  <a:lnTo>
                    <a:pt x="1845310" y="2410459"/>
                  </a:lnTo>
                  <a:lnTo>
                    <a:pt x="1858010" y="2419350"/>
                  </a:lnTo>
                  <a:lnTo>
                    <a:pt x="1870710" y="2429509"/>
                  </a:lnTo>
                  <a:lnTo>
                    <a:pt x="1891029" y="2440940"/>
                  </a:lnTo>
                  <a:lnTo>
                    <a:pt x="1908810" y="2451100"/>
                  </a:lnTo>
                  <a:lnTo>
                    <a:pt x="1927860" y="2463800"/>
                  </a:lnTo>
                  <a:lnTo>
                    <a:pt x="1977389" y="2509520"/>
                  </a:lnTo>
                  <a:lnTo>
                    <a:pt x="1985010" y="2512059"/>
                  </a:lnTo>
                  <a:lnTo>
                    <a:pt x="2016760" y="2534920"/>
                  </a:lnTo>
                  <a:lnTo>
                    <a:pt x="2021839" y="2536190"/>
                  </a:lnTo>
                  <a:lnTo>
                    <a:pt x="2030729" y="2542540"/>
                  </a:lnTo>
                  <a:lnTo>
                    <a:pt x="2048510" y="2552700"/>
                  </a:lnTo>
                  <a:lnTo>
                    <a:pt x="2067560" y="2565400"/>
                  </a:lnTo>
                  <a:lnTo>
                    <a:pt x="2072639" y="2569209"/>
                  </a:lnTo>
                  <a:lnTo>
                    <a:pt x="2078989" y="2573020"/>
                  </a:lnTo>
                  <a:lnTo>
                    <a:pt x="2099310" y="2578100"/>
                  </a:lnTo>
                  <a:lnTo>
                    <a:pt x="2117089" y="2585720"/>
                  </a:lnTo>
                  <a:lnTo>
                    <a:pt x="2138679" y="2589529"/>
                  </a:lnTo>
                  <a:lnTo>
                    <a:pt x="2223770" y="2590800"/>
                  </a:lnTo>
                  <a:lnTo>
                    <a:pt x="2230120" y="2588259"/>
                  </a:lnTo>
                  <a:lnTo>
                    <a:pt x="2258060" y="2566670"/>
                  </a:lnTo>
                  <a:lnTo>
                    <a:pt x="2289810" y="2536190"/>
                  </a:lnTo>
                  <a:lnTo>
                    <a:pt x="2292350" y="2529840"/>
                  </a:lnTo>
                  <a:lnTo>
                    <a:pt x="2298700" y="2509520"/>
                  </a:lnTo>
                  <a:lnTo>
                    <a:pt x="2306320" y="2493009"/>
                  </a:lnTo>
                  <a:lnTo>
                    <a:pt x="2308860" y="2479040"/>
                  </a:lnTo>
                  <a:lnTo>
                    <a:pt x="2312670" y="2472690"/>
                  </a:lnTo>
                  <a:lnTo>
                    <a:pt x="2324100" y="2461259"/>
                  </a:lnTo>
                  <a:lnTo>
                    <a:pt x="2327910" y="2454909"/>
                  </a:lnTo>
                  <a:lnTo>
                    <a:pt x="2357120" y="2383790"/>
                  </a:lnTo>
                  <a:lnTo>
                    <a:pt x="2360929" y="2357120"/>
                  </a:lnTo>
                  <a:lnTo>
                    <a:pt x="2363470" y="2324100"/>
                  </a:lnTo>
                  <a:lnTo>
                    <a:pt x="2385059" y="2241550"/>
                  </a:lnTo>
                  <a:lnTo>
                    <a:pt x="2388870" y="2207259"/>
                  </a:lnTo>
                  <a:lnTo>
                    <a:pt x="2396490" y="2189479"/>
                  </a:lnTo>
                  <a:lnTo>
                    <a:pt x="2402840" y="2157729"/>
                  </a:lnTo>
                  <a:lnTo>
                    <a:pt x="2406650" y="2150109"/>
                  </a:lnTo>
                  <a:lnTo>
                    <a:pt x="2411729" y="2098040"/>
                  </a:lnTo>
                  <a:lnTo>
                    <a:pt x="2414270" y="2058670"/>
                  </a:lnTo>
                  <a:lnTo>
                    <a:pt x="2424429" y="1973579"/>
                  </a:lnTo>
                  <a:lnTo>
                    <a:pt x="2426970" y="1940559"/>
                  </a:lnTo>
                  <a:lnTo>
                    <a:pt x="2432050" y="1916429"/>
                  </a:lnTo>
                  <a:lnTo>
                    <a:pt x="2433320" y="1905000"/>
                  </a:lnTo>
                  <a:lnTo>
                    <a:pt x="2429509" y="1877059"/>
                  </a:lnTo>
                  <a:lnTo>
                    <a:pt x="2438400" y="1799590"/>
                  </a:lnTo>
                  <a:lnTo>
                    <a:pt x="2438400" y="1756409"/>
                  </a:lnTo>
                  <a:lnTo>
                    <a:pt x="2442209" y="1739900"/>
                  </a:lnTo>
                  <a:lnTo>
                    <a:pt x="2447290" y="1722120"/>
                  </a:lnTo>
                  <a:lnTo>
                    <a:pt x="2452370" y="1661159"/>
                  </a:lnTo>
                  <a:lnTo>
                    <a:pt x="2461259" y="1625600"/>
                  </a:lnTo>
                  <a:lnTo>
                    <a:pt x="2463800" y="1524000"/>
                  </a:lnTo>
                  <a:lnTo>
                    <a:pt x="2463800" y="1311909"/>
                  </a:lnTo>
                  <a:lnTo>
                    <a:pt x="2467609" y="1295400"/>
                  </a:lnTo>
                  <a:lnTo>
                    <a:pt x="2472690" y="1278890"/>
                  </a:lnTo>
                  <a:lnTo>
                    <a:pt x="2476500" y="1215390"/>
                  </a:lnTo>
                  <a:lnTo>
                    <a:pt x="2476500" y="1121409"/>
                  </a:lnTo>
                  <a:lnTo>
                    <a:pt x="2480309" y="1104900"/>
                  </a:lnTo>
                  <a:lnTo>
                    <a:pt x="2485390" y="1088390"/>
                  </a:lnTo>
                  <a:lnTo>
                    <a:pt x="2500629" y="988059"/>
                  </a:lnTo>
                  <a:lnTo>
                    <a:pt x="2501900" y="887729"/>
                  </a:lnTo>
                  <a:lnTo>
                    <a:pt x="2501900" y="843279"/>
                  </a:lnTo>
                  <a:lnTo>
                    <a:pt x="2505709" y="825500"/>
                  </a:lnTo>
                  <a:lnTo>
                    <a:pt x="2510790" y="808990"/>
                  </a:lnTo>
                  <a:lnTo>
                    <a:pt x="2514600" y="745490"/>
                  </a:lnTo>
                  <a:lnTo>
                    <a:pt x="2514600" y="678179"/>
                  </a:lnTo>
                  <a:lnTo>
                    <a:pt x="2518409" y="660400"/>
                  </a:lnTo>
                  <a:lnTo>
                    <a:pt x="2523490" y="642620"/>
                  </a:lnTo>
                  <a:lnTo>
                    <a:pt x="2527300" y="543559"/>
                  </a:lnTo>
                  <a:lnTo>
                    <a:pt x="2527300" y="438150"/>
                  </a:lnTo>
                  <a:lnTo>
                    <a:pt x="2528570" y="430529"/>
                  </a:lnTo>
                  <a:lnTo>
                    <a:pt x="2536190" y="411479"/>
                  </a:lnTo>
                  <a:lnTo>
                    <a:pt x="2538729" y="379729"/>
                  </a:lnTo>
                  <a:lnTo>
                    <a:pt x="2540000" y="372109"/>
                  </a:lnTo>
                  <a:lnTo>
                    <a:pt x="2538729" y="365759"/>
                  </a:lnTo>
                  <a:lnTo>
                    <a:pt x="2533650" y="354329"/>
                  </a:lnTo>
                  <a:lnTo>
                    <a:pt x="2532379" y="346709"/>
                  </a:lnTo>
                  <a:lnTo>
                    <a:pt x="2536190" y="332740"/>
                  </a:lnTo>
                  <a:lnTo>
                    <a:pt x="2536190" y="325120"/>
                  </a:lnTo>
                  <a:lnTo>
                    <a:pt x="2532379" y="308609"/>
                  </a:lnTo>
                  <a:lnTo>
                    <a:pt x="2532379" y="300990"/>
                  </a:lnTo>
                  <a:lnTo>
                    <a:pt x="2533650" y="295909"/>
                  </a:lnTo>
                  <a:lnTo>
                    <a:pt x="2534920" y="290829"/>
                  </a:lnTo>
                  <a:lnTo>
                    <a:pt x="2534920" y="285750"/>
                  </a:lnTo>
                  <a:lnTo>
                    <a:pt x="2533650" y="280670"/>
                  </a:lnTo>
                  <a:lnTo>
                    <a:pt x="2532379" y="275590"/>
                  </a:lnTo>
                  <a:lnTo>
                    <a:pt x="2529840" y="262890"/>
                  </a:lnTo>
                  <a:lnTo>
                    <a:pt x="2527300" y="162559"/>
                  </a:lnTo>
                  <a:lnTo>
                    <a:pt x="2527300" y="113029"/>
                  </a:lnTo>
                  <a:lnTo>
                    <a:pt x="2531109" y="99060"/>
                  </a:lnTo>
                  <a:lnTo>
                    <a:pt x="2537459" y="85089"/>
                  </a:lnTo>
                  <a:lnTo>
                    <a:pt x="2547620" y="68579"/>
                  </a:lnTo>
                  <a:lnTo>
                    <a:pt x="2550159" y="59689"/>
                  </a:lnTo>
                  <a:lnTo>
                    <a:pt x="2553970" y="55879"/>
                  </a:lnTo>
                  <a:lnTo>
                    <a:pt x="2569209" y="41910"/>
                  </a:lnTo>
                  <a:lnTo>
                    <a:pt x="2573020" y="38100"/>
                  </a:lnTo>
                  <a:lnTo>
                    <a:pt x="2574290" y="34289"/>
                  </a:lnTo>
                  <a:lnTo>
                    <a:pt x="2590800" y="13970"/>
                  </a:lnTo>
                  <a:lnTo>
                    <a:pt x="2595879" y="10160"/>
                  </a:lnTo>
                  <a:lnTo>
                    <a:pt x="2606040" y="3810"/>
                  </a:lnTo>
                  <a:lnTo>
                    <a:pt x="2626359" y="1270"/>
                  </a:lnTo>
                  <a:lnTo>
                    <a:pt x="2644140" y="0"/>
                  </a:lnTo>
                  <a:lnTo>
                    <a:pt x="2656840" y="3810"/>
                  </a:lnTo>
                  <a:lnTo>
                    <a:pt x="2670809" y="10160"/>
                  </a:lnTo>
                  <a:lnTo>
                    <a:pt x="2687320" y="20320"/>
                  </a:lnTo>
                  <a:lnTo>
                    <a:pt x="2696209" y="22860"/>
                  </a:lnTo>
                  <a:lnTo>
                    <a:pt x="2700020" y="26670"/>
                  </a:lnTo>
                  <a:lnTo>
                    <a:pt x="2708909" y="38100"/>
                  </a:lnTo>
                  <a:lnTo>
                    <a:pt x="2715259" y="41910"/>
                  </a:lnTo>
                  <a:lnTo>
                    <a:pt x="2721609" y="45720"/>
                  </a:lnTo>
                  <a:lnTo>
                    <a:pt x="2729229" y="46989"/>
                  </a:lnTo>
                  <a:lnTo>
                    <a:pt x="2733040" y="50800"/>
                  </a:lnTo>
                  <a:lnTo>
                    <a:pt x="2736850" y="57150"/>
                  </a:lnTo>
                  <a:lnTo>
                    <a:pt x="2748279" y="86360"/>
                  </a:lnTo>
                  <a:lnTo>
                    <a:pt x="2760979" y="104140"/>
                  </a:lnTo>
                  <a:lnTo>
                    <a:pt x="2772409" y="118109"/>
                  </a:lnTo>
                  <a:lnTo>
                    <a:pt x="2776220" y="123190"/>
                  </a:lnTo>
                  <a:lnTo>
                    <a:pt x="2794000" y="184150"/>
                  </a:lnTo>
                  <a:lnTo>
                    <a:pt x="2811779" y="213359"/>
                  </a:lnTo>
                  <a:lnTo>
                    <a:pt x="2815590" y="229870"/>
                  </a:lnTo>
                  <a:lnTo>
                    <a:pt x="2820670" y="262890"/>
                  </a:lnTo>
                  <a:lnTo>
                    <a:pt x="2828290" y="284479"/>
                  </a:lnTo>
                  <a:lnTo>
                    <a:pt x="2832100" y="308609"/>
                  </a:lnTo>
                  <a:lnTo>
                    <a:pt x="2840990" y="326390"/>
                  </a:lnTo>
                  <a:lnTo>
                    <a:pt x="2843529" y="347979"/>
                  </a:lnTo>
                  <a:lnTo>
                    <a:pt x="2844800" y="448309"/>
                  </a:lnTo>
                  <a:lnTo>
                    <a:pt x="2844800" y="618490"/>
                  </a:lnTo>
                  <a:lnTo>
                    <a:pt x="2846070" y="624840"/>
                  </a:lnTo>
                  <a:lnTo>
                    <a:pt x="2853690" y="642620"/>
                  </a:lnTo>
                  <a:lnTo>
                    <a:pt x="2860040" y="674370"/>
                  </a:lnTo>
                  <a:lnTo>
                    <a:pt x="2867659" y="694690"/>
                  </a:lnTo>
                  <a:lnTo>
                    <a:pt x="2870200" y="721359"/>
                  </a:lnTo>
                  <a:lnTo>
                    <a:pt x="2870200" y="821690"/>
                  </a:lnTo>
                  <a:lnTo>
                    <a:pt x="2870200" y="910590"/>
                  </a:lnTo>
                  <a:lnTo>
                    <a:pt x="2866390" y="927100"/>
                  </a:lnTo>
                  <a:lnTo>
                    <a:pt x="2860040" y="948690"/>
                  </a:lnTo>
                  <a:lnTo>
                    <a:pt x="2857500" y="960120"/>
                  </a:lnTo>
                  <a:lnTo>
                    <a:pt x="2848609" y="982979"/>
                  </a:lnTo>
                  <a:lnTo>
                    <a:pt x="2844800" y="1024890"/>
                  </a:lnTo>
                  <a:lnTo>
                    <a:pt x="2848609" y="1041400"/>
                  </a:lnTo>
                  <a:lnTo>
                    <a:pt x="2853690" y="1057909"/>
                  </a:lnTo>
                  <a:lnTo>
                    <a:pt x="2857500" y="1101090"/>
                  </a:lnTo>
                  <a:lnTo>
                    <a:pt x="2853690" y="1117600"/>
                  </a:lnTo>
                  <a:lnTo>
                    <a:pt x="2848609" y="1134109"/>
                  </a:lnTo>
                  <a:lnTo>
                    <a:pt x="2846070" y="1151890"/>
                  </a:lnTo>
                  <a:lnTo>
                    <a:pt x="2849879" y="1168400"/>
                  </a:lnTo>
                  <a:lnTo>
                    <a:pt x="2854959" y="1189990"/>
                  </a:lnTo>
                  <a:lnTo>
                    <a:pt x="2861309" y="1282700"/>
                  </a:lnTo>
                  <a:lnTo>
                    <a:pt x="2866390" y="1299209"/>
                  </a:lnTo>
                  <a:lnTo>
                    <a:pt x="2870200" y="1367790"/>
                  </a:lnTo>
                  <a:lnTo>
                    <a:pt x="2870200" y="1517650"/>
                  </a:lnTo>
                  <a:lnTo>
                    <a:pt x="2871470" y="1525270"/>
                  </a:lnTo>
                  <a:lnTo>
                    <a:pt x="2879090" y="1544320"/>
                  </a:lnTo>
                  <a:lnTo>
                    <a:pt x="2881629" y="1579879"/>
                  </a:lnTo>
                  <a:lnTo>
                    <a:pt x="2884170" y="1600200"/>
                  </a:lnTo>
                  <a:lnTo>
                    <a:pt x="2893059" y="1640840"/>
                  </a:lnTo>
                  <a:lnTo>
                    <a:pt x="2895600" y="1744979"/>
                  </a:lnTo>
                  <a:lnTo>
                    <a:pt x="2896870" y="1778000"/>
                  </a:lnTo>
                  <a:lnTo>
                    <a:pt x="2908300" y="1831340"/>
                  </a:lnTo>
                  <a:lnTo>
                    <a:pt x="2917190" y="1849120"/>
                  </a:lnTo>
                  <a:lnTo>
                    <a:pt x="2921000" y="1882140"/>
                  </a:lnTo>
                  <a:lnTo>
                    <a:pt x="2921000" y="1926590"/>
                  </a:lnTo>
                  <a:lnTo>
                    <a:pt x="2922270" y="1934209"/>
                  </a:lnTo>
                  <a:lnTo>
                    <a:pt x="2941320" y="1973579"/>
                  </a:lnTo>
                  <a:lnTo>
                    <a:pt x="2945129" y="1998979"/>
                  </a:lnTo>
                  <a:lnTo>
                    <a:pt x="2947670" y="2023109"/>
                  </a:lnTo>
                  <a:lnTo>
                    <a:pt x="2959100" y="2063750"/>
                  </a:lnTo>
                  <a:lnTo>
                    <a:pt x="2984500" y="2105659"/>
                  </a:lnTo>
                  <a:lnTo>
                    <a:pt x="3009900" y="2137409"/>
                  </a:lnTo>
                  <a:lnTo>
                    <a:pt x="3013709" y="2145029"/>
                  </a:lnTo>
                  <a:lnTo>
                    <a:pt x="3018790" y="2148840"/>
                  </a:lnTo>
                  <a:lnTo>
                    <a:pt x="3022600" y="2152650"/>
                  </a:lnTo>
                  <a:lnTo>
                    <a:pt x="3046729" y="2164079"/>
                  </a:lnTo>
                  <a:lnTo>
                    <a:pt x="3053079" y="2169159"/>
                  </a:lnTo>
                  <a:lnTo>
                    <a:pt x="3068320" y="2188209"/>
                  </a:lnTo>
                  <a:lnTo>
                    <a:pt x="3072129" y="2190750"/>
                  </a:lnTo>
                  <a:lnTo>
                    <a:pt x="3133090" y="2218690"/>
                  </a:lnTo>
                  <a:lnTo>
                    <a:pt x="3139440" y="2219959"/>
                  </a:lnTo>
                  <a:lnTo>
                    <a:pt x="3148329" y="2225040"/>
                  </a:lnTo>
                  <a:lnTo>
                    <a:pt x="3172459" y="2240279"/>
                  </a:lnTo>
                  <a:lnTo>
                    <a:pt x="3185159" y="2244090"/>
                  </a:lnTo>
                  <a:lnTo>
                    <a:pt x="3196590" y="2247900"/>
                  </a:lnTo>
                  <a:lnTo>
                    <a:pt x="3216909" y="2258059"/>
                  </a:lnTo>
                  <a:lnTo>
                    <a:pt x="3233420" y="2268220"/>
                  </a:lnTo>
                  <a:lnTo>
                    <a:pt x="3324859" y="2305050"/>
                  </a:lnTo>
                  <a:lnTo>
                    <a:pt x="3348990" y="2319020"/>
                  </a:lnTo>
                  <a:lnTo>
                    <a:pt x="3418840" y="2336800"/>
                  </a:lnTo>
                  <a:lnTo>
                    <a:pt x="3440429" y="2346959"/>
                  </a:lnTo>
                  <a:lnTo>
                    <a:pt x="3458209" y="2348229"/>
                  </a:lnTo>
                  <a:lnTo>
                    <a:pt x="3464559" y="2349500"/>
                  </a:lnTo>
                  <a:lnTo>
                    <a:pt x="3470909" y="2350770"/>
                  </a:lnTo>
                  <a:lnTo>
                    <a:pt x="3510279" y="2369820"/>
                  </a:lnTo>
                  <a:lnTo>
                    <a:pt x="3535679" y="2373629"/>
                  </a:lnTo>
                  <a:lnTo>
                    <a:pt x="3622040" y="2376170"/>
                  </a:lnTo>
                  <a:lnTo>
                    <a:pt x="3641090" y="2383790"/>
                  </a:lnTo>
                  <a:lnTo>
                    <a:pt x="3671570" y="2386329"/>
                  </a:lnTo>
                  <a:lnTo>
                    <a:pt x="3679190" y="2387600"/>
                  </a:lnTo>
                  <a:lnTo>
                    <a:pt x="3686809" y="2388870"/>
                  </a:lnTo>
                  <a:lnTo>
                    <a:pt x="3704590" y="2396490"/>
                  </a:lnTo>
                  <a:lnTo>
                    <a:pt x="3735070" y="2399029"/>
                  </a:lnTo>
                  <a:lnTo>
                    <a:pt x="3895090" y="2400300"/>
                  </a:lnTo>
                  <a:lnTo>
                    <a:pt x="3901440" y="2401570"/>
                  </a:lnTo>
                  <a:lnTo>
                    <a:pt x="3923029" y="2410459"/>
                  </a:lnTo>
                  <a:lnTo>
                    <a:pt x="3940809" y="2411729"/>
                  </a:lnTo>
                  <a:lnTo>
                    <a:pt x="3947159" y="2413000"/>
                  </a:lnTo>
                  <a:lnTo>
                    <a:pt x="3963670" y="2416809"/>
                  </a:lnTo>
                  <a:lnTo>
                    <a:pt x="3980179" y="2421890"/>
                  </a:lnTo>
                  <a:lnTo>
                    <a:pt x="4003040" y="2425700"/>
                  </a:lnTo>
                  <a:lnTo>
                    <a:pt x="4020820" y="2434590"/>
                  </a:lnTo>
                  <a:lnTo>
                    <a:pt x="4052570" y="2437129"/>
                  </a:lnTo>
                  <a:lnTo>
                    <a:pt x="4093209" y="2439670"/>
                  </a:lnTo>
                  <a:lnTo>
                    <a:pt x="4127500" y="2448559"/>
                  </a:lnTo>
                  <a:lnTo>
                    <a:pt x="4160520" y="2452370"/>
                  </a:lnTo>
                  <a:lnTo>
                    <a:pt x="4183379" y="2459990"/>
                  </a:lnTo>
                  <a:lnTo>
                    <a:pt x="4232909" y="2463800"/>
                  </a:lnTo>
                  <a:lnTo>
                    <a:pt x="4326890" y="2463800"/>
                  </a:lnTo>
                  <a:lnTo>
                    <a:pt x="4343400" y="2467609"/>
                  </a:lnTo>
                  <a:lnTo>
                    <a:pt x="4359909" y="2472690"/>
                  </a:lnTo>
                  <a:lnTo>
                    <a:pt x="4433570" y="2480309"/>
                  </a:lnTo>
                  <a:lnTo>
                    <a:pt x="4450079" y="2485390"/>
                  </a:lnTo>
                  <a:lnTo>
                    <a:pt x="4484370" y="2489200"/>
                  </a:lnTo>
                  <a:lnTo>
                    <a:pt x="4489450" y="2487929"/>
                  </a:lnTo>
                  <a:lnTo>
                    <a:pt x="4499609" y="2482850"/>
                  </a:lnTo>
                  <a:lnTo>
                    <a:pt x="4525009" y="2458720"/>
                  </a:lnTo>
                  <a:lnTo>
                    <a:pt x="4528820" y="2454909"/>
                  </a:lnTo>
                  <a:lnTo>
                    <a:pt x="4544059" y="2420620"/>
                  </a:lnTo>
                  <a:lnTo>
                    <a:pt x="4554220" y="2405379"/>
                  </a:lnTo>
                  <a:lnTo>
                    <a:pt x="4559300" y="2392679"/>
                  </a:lnTo>
                  <a:lnTo>
                    <a:pt x="4577079" y="2363470"/>
                  </a:lnTo>
                  <a:lnTo>
                    <a:pt x="4580890" y="2348229"/>
                  </a:lnTo>
                  <a:lnTo>
                    <a:pt x="4584700" y="2331720"/>
                  </a:lnTo>
                  <a:lnTo>
                    <a:pt x="4606290" y="2273300"/>
                  </a:lnTo>
                  <a:lnTo>
                    <a:pt x="4616450" y="2232659"/>
                  </a:lnTo>
                  <a:lnTo>
                    <a:pt x="4624070" y="2216150"/>
                  </a:lnTo>
                  <a:lnTo>
                    <a:pt x="4627879" y="2209800"/>
                  </a:lnTo>
                  <a:lnTo>
                    <a:pt x="4631690" y="2192020"/>
                  </a:lnTo>
                  <a:lnTo>
                    <a:pt x="4639309" y="2139950"/>
                  </a:lnTo>
                  <a:lnTo>
                    <a:pt x="4644390" y="2118359"/>
                  </a:lnTo>
                  <a:lnTo>
                    <a:pt x="4660900" y="2016759"/>
                  </a:lnTo>
                  <a:lnTo>
                    <a:pt x="4671059" y="1981200"/>
                  </a:lnTo>
                  <a:lnTo>
                    <a:pt x="4674870" y="1875790"/>
                  </a:lnTo>
                  <a:lnTo>
                    <a:pt x="4682490" y="1847850"/>
                  </a:lnTo>
                  <a:lnTo>
                    <a:pt x="4688840" y="1795779"/>
                  </a:lnTo>
                  <a:lnTo>
                    <a:pt x="4695190" y="1774190"/>
                  </a:lnTo>
                  <a:lnTo>
                    <a:pt x="4702809" y="1682750"/>
                  </a:lnTo>
                  <a:lnTo>
                    <a:pt x="4707890" y="1661159"/>
                  </a:lnTo>
                  <a:lnTo>
                    <a:pt x="4712970" y="1590040"/>
                  </a:lnTo>
                  <a:lnTo>
                    <a:pt x="4720590" y="1567179"/>
                  </a:lnTo>
                  <a:lnTo>
                    <a:pt x="4725670" y="1485900"/>
                  </a:lnTo>
                  <a:lnTo>
                    <a:pt x="4734559" y="1457959"/>
                  </a:lnTo>
                  <a:lnTo>
                    <a:pt x="4737100" y="1442720"/>
                  </a:lnTo>
                  <a:lnTo>
                    <a:pt x="4745990" y="1417320"/>
                  </a:lnTo>
                  <a:lnTo>
                    <a:pt x="4749800" y="1374140"/>
                  </a:lnTo>
                  <a:lnTo>
                    <a:pt x="4751070" y="1344929"/>
                  </a:lnTo>
                  <a:lnTo>
                    <a:pt x="4759959" y="1316990"/>
                  </a:lnTo>
                  <a:lnTo>
                    <a:pt x="4770120" y="1291590"/>
                  </a:lnTo>
                  <a:lnTo>
                    <a:pt x="4773929" y="1257300"/>
                  </a:lnTo>
                  <a:lnTo>
                    <a:pt x="4776470" y="1181100"/>
                  </a:lnTo>
                  <a:lnTo>
                    <a:pt x="4785359" y="1153159"/>
                  </a:lnTo>
                  <a:lnTo>
                    <a:pt x="4795520" y="1126490"/>
                  </a:lnTo>
                  <a:lnTo>
                    <a:pt x="4799329" y="1092200"/>
                  </a:lnTo>
                  <a:lnTo>
                    <a:pt x="4801870" y="1050290"/>
                  </a:lnTo>
                  <a:lnTo>
                    <a:pt x="4806950" y="1032509"/>
                  </a:lnTo>
                  <a:lnTo>
                    <a:pt x="4814570" y="1019809"/>
                  </a:lnTo>
                  <a:lnTo>
                    <a:pt x="4818379" y="1014729"/>
                  </a:lnTo>
                  <a:lnTo>
                    <a:pt x="4819650" y="1009650"/>
                  </a:lnTo>
                  <a:lnTo>
                    <a:pt x="4818379" y="1004570"/>
                  </a:lnTo>
                  <a:lnTo>
                    <a:pt x="4817109" y="999490"/>
                  </a:lnTo>
                  <a:lnTo>
                    <a:pt x="4817109" y="994409"/>
                  </a:lnTo>
                  <a:lnTo>
                    <a:pt x="4824729" y="962659"/>
                  </a:lnTo>
                  <a:lnTo>
                    <a:pt x="4826000" y="957579"/>
                  </a:lnTo>
                  <a:lnTo>
                    <a:pt x="4846320" y="923290"/>
                  </a:lnTo>
                  <a:lnTo>
                    <a:pt x="4857750" y="891540"/>
                  </a:lnTo>
                  <a:lnTo>
                    <a:pt x="4871720" y="868679"/>
                  </a:lnTo>
                  <a:lnTo>
                    <a:pt x="4883150" y="839470"/>
                  </a:lnTo>
                  <a:lnTo>
                    <a:pt x="4886959" y="835659"/>
                  </a:lnTo>
                  <a:lnTo>
                    <a:pt x="4890770" y="831850"/>
                  </a:lnTo>
                  <a:lnTo>
                    <a:pt x="4898390" y="826770"/>
                  </a:lnTo>
                  <a:lnTo>
                    <a:pt x="4918709" y="812800"/>
                  </a:lnTo>
                  <a:lnTo>
                    <a:pt x="4926329" y="807720"/>
                  </a:lnTo>
                  <a:lnTo>
                    <a:pt x="4941570" y="803909"/>
                  </a:lnTo>
                  <a:lnTo>
                    <a:pt x="4974590" y="801370"/>
                  </a:lnTo>
                  <a:lnTo>
                    <a:pt x="4980940" y="801370"/>
                  </a:lnTo>
                  <a:lnTo>
                    <a:pt x="4992370" y="806450"/>
                  </a:lnTo>
                  <a:lnTo>
                    <a:pt x="5007609" y="817879"/>
                  </a:lnTo>
                  <a:lnTo>
                    <a:pt x="5012690" y="820420"/>
                  </a:lnTo>
                  <a:lnTo>
                    <a:pt x="5033009" y="825500"/>
                  </a:lnTo>
                  <a:lnTo>
                    <a:pt x="5044440" y="831850"/>
                  </a:lnTo>
                  <a:lnTo>
                    <a:pt x="5083809" y="867409"/>
                  </a:lnTo>
                  <a:lnTo>
                    <a:pt x="5121909" y="918209"/>
                  </a:lnTo>
                  <a:lnTo>
                    <a:pt x="5125720" y="924559"/>
                  </a:lnTo>
                  <a:lnTo>
                    <a:pt x="5128259" y="938529"/>
                  </a:lnTo>
                  <a:lnTo>
                    <a:pt x="5132070" y="943609"/>
                  </a:lnTo>
                  <a:lnTo>
                    <a:pt x="5147309" y="960120"/>
                  </a:lnTo>
                  <a:lnTo>
                    <a:pt x="5151120" y="963929"/>
                  </a:lnTo>
                  <a:lnTo>
                    <a:pt x="5152390" y="969009"/>
                  </a:lnTo>
                  <a:lnTo>
                    <a:pt x="5176520" y="1008379"/>
                  </a:lnTo>
                  <a:lnTo>
                    <a:pt x="5179059" y="1018540"/>
                  </a:lnTo>
                  <a:lnTo>
                    <a:pt x="5187950" y="1031240"/>
                  </a:lnTo>
                  <a:lnTo>
                    <a:pt x="5198109" y="1045209"/>
                  </a:lnTo>
                  <a:lnTo>
                    <a:pt x="5207000" y="1062990"/>
                  </a:lnTo>
                  <a:lnTo>
                    <a:pt x="5219700" y="1076959"/>
                  </a:lnTo>
                  <a:lnTo>
                    <a:pt x="5223509" y="1085850"/>
                  </a:lnTo>
                  <a:lnTo>
                    <a:pt x="5228590" y="1107440"/>
                  </a:lnTo>
                  <a:lnTo>
                    <a:pt x="5232400" y="1116329"/>
                  </a:lnTo>
                  <a:lnTo>
                    <a:pt x="5238750" y="1123950"/>
                  </a:lnTo>
                  <a:lnTo>
                    <a:pt x="5245100" y="1130300"/>
                  </a:lnTo>
                  <a:lnTo>
                    <a:pt x="5248909" y="1139190"/>
                  </a:lnTo>
                  <a:lnTo>
                    <a:pt x="5257800" y="1169670"/>
                  </a:lnTo>
                  <a:lnTo>
                    <a:pt x="5270500" y="1188720"/>
                  </a:lnTo>
                  <a:lnTo>
                    <a:pt x="5276850" y="1212850"/>
                  </a:lnTo>
                  <a:lnTo>
                    <a:pt x="5281929" y="1239520"/>
                  </a:lnTo>
                  <a:lnTo>
                    <a:pt x="5288279" y="1254759"/>
                  </a:lnTo>
                  <a:lnTo>
                    <a:pt x="5303520" y="1278890"/>
                  </a:lnTo>
                  <a:lnTo>
                    <a:pt x="5314950" y="1316990"/>
                  </a:lnTo>
                  <a:lnTo>
                    <a:pt x="5330190" y="1344929"/>
                  </a:lnTo>
                  <a:lnTo>
                    <a:pt x="5332729" y="1355090"/>
                  </a:lnTo>
                  <a:lnTo>
                    <a:pt x="5332729" y="1369059"/>
                  </a:lnTo>
                  <a:lnTo>
                    <a:pt x="5336540" y="1377950"/>
                  </a:lnTo>
                  <a:lnTo>
                    <a:pt x="5346700" y="1393190"/>
                  </a:lnTo>
                  <a:lnTo>
                    <a:pt x="5351779" y="1403350"/>
                  </a:lnTo>
                  <a:lnTo>
                    <a:pt x="5378450" y="1507490"/>
                  </a:lnTo>
                  <a:lnTo>
                    <a:pt x="5392420" y="1540509"/>
                  </a:lnTo>
                  <a:lnTo>
                    <a:pt x="5400040" y="1574800"/>
                  </a:lnTo>
                  <a:lnTo>
                    <a:pt x="5417820" y="1616709"/>
                  </a:lnTo>
                  <a:lnTo>
                    <a:pt x="5421629" y="1651000"/>
                  </a:lnTo>
                  <a:lnTo>
                    <a:pt x="5421629" y="1659890"/>
                  </a:lnTo>
                  <a:lnTo>
                    <a:pt x="5426709" y="1676400"/>
                  </a:lnTo>
                  <a:lnTo>
                    <a:pt x="5443220" y="1719579"/>
                  </a:lnTo>
                  <a:lnTo>
                    <a:pt x="5450840" y="1762759"/>
                  </a:lnTo>
                  <a:lnTo>
                    <a:pt x="5457190" y="1780540"/>
                  </a:lnTo>
                  <a:lnTo>
                    <a:pt x="5461000" y="1807209"/>
                  </a:lnTo>
                  <a:lnTo>
                    <a:pt x="5471159" y="1841500"/>
                  </a:lnTo>
                  <a:lnTo>
                    <a:pt x="5476240" y="1870709"/>
                  </a:lnTo>
                  <a:lnTo>
                    <a:pt x="5496559" y="1938020"/>
                  </a:lnTo>
                  <a:lnTo>
                    <a:pt x="5500370" y="1972309"/>
                  </a:lnTo>
                  <a:lnTo>
                    <a:pt x="5520690" y="2035809"/>
                  </a:lnTo>
                  <a:lnTo>
                    <a:pt x="5524500" y="2057400"/>
                  </a:lnTo>
                  <a:lnTo>
                    <a:pt x="5546090" y="2120900"/>
                  </a:lnTo>
                  <a:lnTo>
                    <a:pt x="5549900" y="2137409"/>
                  </a:lnTo>
                  <a:lnTo>
                    <a:pt x="5571490" y="2197100"/>
                  </a:lnTo>
                  <a:lnTo>
                    <a:pt x="5575300" y="2213609"/>
                  </a:lnTo>
                  <a:lnTo>
                    <a:pt x="5584190" y="2239009"/>
                  </a:lnTo>
                  <a:lnTo>
                    <a:pt x="5594350" y="2288540"/>
                  </a:lnTo>
                  <a:lnTo>
                    <a:pt x="5609590" y="2335529"/>
                  </a:lnTo>
                  <a:lnTo>
                    <a:pt x="5614669" y="2378709"/>
                  </a:lnTo>
                  <a:lnTo>
                    <a:pt x="5648959" y="2477770"/>
                  </a:lnTo>
                  <a:lnTo>
                    <a:pt x="5651500" y="2494279"/>
                  </a:lnTo>
                  <a:lnTo>
                    <a:pt x="5681980" y="2588259"/>
                  </a:lnTo>
                  <a:lnTo>
                    <a:pt x="5698490" y="2637790"/>
                  </a:lnTo>
                  <a:lnTo>
                    <a:pt x="5706109" y="2653029"/>
                  </a:lnTo>
                  <a:lnTo>
                    <a:pt x="5711190" y="2672079"/>
                  </a:lnTo>
                  <a:lnTo>
                    <a:pt x="5715000" y="2693670"/>
                  </a:lnTo>
                  <a:lnTo>
                    <a:pt x="5736590" y="2755900"/>
                  </a:lnTo>
                  <a:lnTo>
                    <a:pt x="5737859" y="2764790"/>
                  </a:lnTo>
                  <a:lnTo>
                    <a:pt x="5742940" y="2777490"/>
                  </a:lnTo>
                  <a:lnTo>
                    <a:pt x="5746750" y="2782570"/>
                  </a:lnTo>
                  <a:lnTo>
                    <a:pt x="5750559" y="2796540"/>
                  </a:lnTo>
                  <a:lnTo>
                    <a:pt x="5750559" y="2804159"/>
                  </a:lnTo>
                  <a:lnTo>
                    <a:pt x="5755640" y="2816859"/>
                  </a:lnTo>
                  <a:lnTo>
                    <a:pt x="5759450" y="2821940"/>
                  </a:lnTo>
                  <a:lnTo>
                    <a:pt x="5763259" y="2834640"/>
                  </a:lnTo>
                  <a:lnTo>
                    <a:pt x="5765800" y="2849879"/>
                  </a:lnTo>
                  <a:lnTo>
                    <a:pt x="5787390" y="2908300"/>
                  </a:lnTo>
                  <a:lnTo>
                    <a:pt x="5792469" y="2941320"/>
                  </a:lnTo>
                  <a:lnTo>
                    <a:pt x="5812790" y="2997200"/>
                  </a:lnTo>
                  <a:lnTo>
                    <a:pt x="5817869" y="3039109"/>
                  </a:lnTo>
                  <a:lnTo>
                    <a:pt x="5826759" y="3073400"/>
                  </a:lnTo>
                  <a:lnTo>
                    <a:pt x="5829300" y="3089909"/>
                  </a:lnTo>
                  <a:lnTo>
                    <a:pt x="5839459" y="3125470"/>
                  </a:lnTo>
                  <a:lnTo>
                    <a:pt x="5843269" y="3153409"/>
                  </a:lnTo>
                  <a:lnTo>
                    <a:pt x="5852159" y="3173729"/>
                  </a:lnTo>
                  <a:lnTo>
                    <a:pt x="5854700" y="3183890"/>
                  </a:lnTo>
                  <a:lnTo>
                    <a:pt x="5876290" y="3234690"/>
                  </a:lnTo>
                  <a:lnTo>
                    <a:pt x="5877559" y="3241040"/>
                  </a:lnTo>
                  <a:lnTo>
                    <a:pt x="5882640" y="3249929"/>
                  </a:lnTo>
                  <a:lnTo>
                    <a:pt x="5901690" y="3279140"/>
                  </a:lnTo>
                  <a:lnTo>
                    <a:pt x="5905500" y="3282950"/>
                  </a:lnTo>
                  <a:lnTo>
                    <a:pt x="5909309" y="3285490"/>
                  </a:lnTo>
                  <a:lnTo>
                    <a:pt x="5913119" y="3289300"/>
                  </a:lnTo>
                  <a:lnTo>
                    <a:pt x="5924550" y="3324859"/>
                  </a:lnTo>
                  <a:lnTo>
                    <a:pt x="5928359" y="3329940"/>
                  </a:lnTo>
                  <a:lnTo>
                    <a:pt x="5932169" y="3332479"/>
                  </a:lnTo>
                  <a:lnTo>
                    <a:pt x="5935980" y="3335020"/>
                  </a:lnTo>
                  <a:lnTo>
                    <a:pt x="5943600" y="3345179"/>
                  </a:lnTo>
                  <a:lnTo>
                    <a:pt x="5951219" y="3357880"/>
                  </a:lnTo>
                  <a:lnTo>
                    <a:pt x="5953759" y="3368040"/>
                  </a:lnTo>
                  <a:lnTo>
                    <a:pt x="5962650" y="3380740"/>
                  </a:lnTo>
                  <a:lnTo>
                    <a:pt x="5974080" y="3393440"/>
                  </a:lnTo>
                  <a:lnTo>
                    <a:pt x="6018530" y="3421380"/>
                  </a:lnTo>
                  <a:lnTo>
                    <a:pt x="6029959" y="3425190"/>
                  </a:lnTo>
                  <a:lnTo>
                    <a:pt x="6041390" y="3427730"/>
                  </a:lnTo>
                  <a:lnTo>
                    <a:pt x="6130290" y="3429000"/>
                  </a:lnTo>
                  <a:lnTo>
                    <a:pt x="6146800" y="3425190"/>
                  </a:lnTo>
                  <a:lnTo>
                    <a:pt x="6162040" y="3418840"/>
                  </a:lnTo>
                  <a:lnTo>
                    <a:pt x="6173469" y="3411219"/>
                  </a:lnTo>
                  <a:lnTo>
                    <a:pt x="6187440" y="3407409"/>
                  </a:lnTo>
                  <a:lnTo>
                    <a:pt x="6195059" y="3406140"/>
                  </a:lnTo>
                  <a:lnTo>
                    <a:pt x="6207759" y="3401059"/>
                  </a:lnTo>
                  <a:lnTo>
                    <a:pt x="6256019" y="3370580"/>
                  </a:lnTo>
                  <a:lnTo>
                    <a:pt x="6264909" y="3368040"/>
                  </a:lnTo>
                  <a:lnTo>
                    <a:pt x="6277609" y="3359150"/>
                  </a:lnTo>
                  <a:lnTo>
                    <a:pt x="6315709" y="3323590"/>
                  </a:lnTo>
                  <a:lnTo>
                    <a:pt x="6328409" y="3303270"/>
                  </a:lnTo>
                  <a:lnTo>
                    <a:pt x="6333490" y="3288029"/>
                  </a:lnTo>
                  <a:lnTo>
                    <a:pt x="6334759" y="3280409"/>
                  </a:lnTo>
                  <a:lnTo>
                    <a:pt x="6343650" y="3263900"/>
                  </a:lnTo>
                  <a:lnTo>
                    <a:pt x="6350000" y="3255009"/>
                  </a:lnTo>
                  <a:lnTo>
                    <a:pt x="6357619" y="3238500"/>
                  </a:lnTo>
                  <a:lnTo>
                    <a:pt x="6361430" y="3223259"/>
                  </a:lnTo>
                  <a:lnTo>
                    <a:pt x="6380480" y="3183890"/>
                  </a:lnTo>
                  <a:lnTo>
                    <a:pt x="6388100" y="3147059"/>
                  </a:lnTo>
                  <a:lnTo>
                    <a:pt x="6394450" y="3135629"/>
                  </a:lnTo>
                  <a:lnTo>
                    <a:pt x="6405880" y="3120390"/>
                  </a:lnTo>
                  <a:lnTo>
                    <a:pt x="6408419" y="3114040"/>
                  </a:lnTo>
                  <a:lnTo>
                    <a:pt x="6416040" y="3074670"/>
                  </a:lnTo>
                  <a:lnTo>
                    <a:pt x="6433819" y="3022600"/>
                  </a:lnTo>
                  <a:lnTo>
                    <a:pt x="6449059" y="2933700"/>
                  </a:lnTo>
                  <a:lnTo>
                    <a:pt x="6459219" y="2905759"/>
                  </a:lnTo>
                  <a:lnTo>
                    <a:pt x="6463030" y="2868929"/>
                  </a:lnTo>
                  <a:lnTo>
                    <a:pt x="6465569" y="2832100"/>
                  </a:lnTo>
                  <a:lnTo>
                    <a:pt x="6473190" y="2810509"/>
                  </a:lnTo>
                  <a:lnTo>
                    <a:pt x="6477000" y="2781300"/>
                  </a:lnTo>
                  <a:lnTo>
                    <a:pt x="6485890" y="2759709"/>
                  </a:lnTo>
                  <a:lnTo>
                    <a:pt x="6490969" y="2710179"/>
                  </a:lnTo>
                  <a:lnTo>
                    <a:pt x="6498590" y="2686050"/>
                  </a:lnTo>
                  <a:lnTo>
                    <a:pt x="6502400" y="2654300"/>
                  </a:lnTo>
                  <a:lnTo>
                    <a:pt x="6512559" y="2617470"/>
                  </a:lnTo>
                  <a:lnTo>
                    <a:pt x="6516369" y="2550159"/>
                  </a:lnTo>
                  <a:lnTo>
                    <a:pt x="6521450" y="2538729"/>
                  </a:lnTo>
                  <a:lnTo>
                    <a:pt x="6532880" y="2523490"/>
                  </a:lnTo>
                  <a:lnTo>
                    <a:pt x="6535419" y="2518409"/>
                  </a:lnTo>
                  <a:lnTo>
                    <a:pt x="6537959" y="2504440"/>
                  </a:lnTo>
                  <a:lnTo>
                    <a:pt x="6541769" y="2447290"/>
                  </a:lnTo>
                  <a:lnTo>
                    <a:pt x="6550659" y="2413000"/>
                  </a:lnTo>
                  <a:lnTo>
                    <a:pt x="6551930" y="2404109"/>
                  </a:lnTo>
                  <a:lnTo>
                    <a:pt x="6555740" y="2391409"/>
                  </a:lnTo>
                  <a:lnTo>
                    <a:pt x="6559550" y="2386329"/>
                  </a:lnTo>
                  <a:lnTo>
                    <a:pt x="6563359" y="2372359"/>
                  </a:lnTo>
                  <a:lnTo>
                    <a:pt x="6567169" y="2334259"/>
                  </a:lnTo>
                  <a:lnTo>
                    <a:pt x="6574790" y="2315209"/>
                  </a:lnTo>
                  <a:lnTo>
                    <a:pt x="6579869" y="2277109"/>
                  </a:lnTo>
                  <a:lnTo>
                    <a:pt x="6600190" y="2222500"/>
                  </a:lnTo>
                  <a:lnTo>
                    <a:pt x="6602730" y="2195829"/>
                  </a:lnTo>
                  <a:lnTo>
                    <a:pt x="6606540" y="2190750"/>
                  </a:lnTo>
                  <a:lnTo>
                    <a:pt x="6621780" y="2176779"/>
                  </a:lnTo>
                  <a:lnTo>
                    <a:pt x="6624319" y="2171700"/>
                  </a:lnTo>
                  <a:lnTo>
                    <a:pt x="6625590" y="2167890"/>
                  </a:lnTo>
                  <a:lnTo>
                    <a:pt x="6634480" y="2155190"/>
                  </a:lnTo>
                  <a:lnTo>
                    <a:pt x="6671309" y="2117090"/>
                  </a:lnTo>
                  <a:lnTo>
                    <a:pt x="6713219" y="2087879"/>
                  </a:lnTo>
                  <a:lnTo>
                    <a:pt x="6747509" y="2072640"/>
                  </a:lnTo>
                  <a:lnTo>
                    <a:pt x="6764019" y="2062479"/>
                  </a:lnTo>
                  <a:lnTo>
                    <a:pt x="6800850" y="2048509"/>
                  </a:lnTo>
                  <a:lnTo>
                    <a:pt x="6832600" y="2045970"/>
                  </a:lnTo>
                  <a:lnTo>
                    <a:pt x="6917690" y="2044700"/>
                  </a:lnTo>
                  <a:lnTo>
                    <a:pt x="6924040" y="2043429"/>
                  </a:lnTo>
                  <a:lnTo>
                    <a:pt x="6941819" y="2035809"/>
                  </a:lnTo>
                  <a:lnTo>
                    <a:pt x="6973569" y="2033270"/>
                  </a:lnTo>
                  <a:lnTo>
                    <a:pt x="7222490" y="2032000"/>
                  </a:lnTo>
                  <a:lnTo>
                    <a:pt x="7603490" y="2032000"/>
                  </a:lnTo>
                  <a:lnTo>
                    <a:pt x="7620000" y="2035809"/>
                  </a:lnTo>
                  <a:lnTo>
                    <a:pt x="7628890" y="2038350"/>
                  </a:lnTo>
                  <a:lnTo>
                    <a:pt x="7636509" y="2039620"/>
                  </a:lnTo>
                  <a:lnTo>
                    <a:pt x="7705090" y="2032000"/>
                  </a:lnTo>
                  <a:lnTo>
                    <a:pt x="7711440" y="2033270"/>
                  </a:lnTo>
                  <a:lnTo>
                    <a:pt x="7722869" y="2038350"/>
                  </a:lnTo>
                  <a:lnTo>
                    <a:pt x="7727950" y="2039620"/>
                  </a:lnTo>
                  <a:lnTo>
                    <a:pt x="7733030" y="2038350"/>
                  </a:lnTo>
                  <a:lnTo>
                    <a:pt x="7738109" y="2035809"/>
                  </a:lnTo>
                  <a:lnTo>
                    <a:pt x="7750809" y="2033270"/>
                  </a:lnTo>
                  <a:lnTo>
                    <a:pt x="7940040" y="2030729"/>
                  </a:lnTo>
                  <a:lnTo>
                    <a:pt x="7957819" y="2023109"/>
                  </a:lnTo>
                  <a:lnTo>
                    <a:pt x="7989569" y="2020570"/>
                  </a:lnTo>
                  <a:lnTo>
                    <a:pt x="8022590" y="2019300"/>
                  </a:lnTo>
                  <a:lnTo>
                    <a:pt x="8039100" y="2023109"/>
                  </a:lnTo>
                  <a:lnTo>
                    <a:pt x="8047990" y="2025650"/>
                  </a:lnTo>
                  <a:lnTo>
                    <a:pt x="8054340" y="2026920"/>
                  </a:lnTo>
                  <a:lnTo>
                    <a:pt x="8060690" y="2025650"/>
                  </a:lnTo>
                  <a:lnTo>
                    <a:pt x="8065769" y="2023109"/>
                  </a:lnTo>
                  <a:lnTo>
                    <a:pt x="8072119" y="2023109"/>
                  </a:lnTo>
                  <a:lnTo>
                    <a:pt x="8140700" y="203200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Straight Connector 7"/>
            <p:cNvSpPr/>
            <p:nvPr/>
          </p:nvSpPr>
          <p:spPr>
            <a:xfrm flipV="1">
              <a:off x="3086280" y="5207040"/>
              <a:ext cx="0" cy="50796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8"/>
            <p:cNvSpPr/>
            <p:nvPr/>
          </p:nvSpPr>
          <p:spPr>
            <a:xfrm>
              <a:off x="3543480" y="3162240"/>
              <a:ext cx="0" cy="19306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traight Connector 9"/>
            <p:cNvSpPr/>
            <p:nvPr/>
          </p:nvSpPr>
          <p:spPr>
            <a:xfrm flipV="1">
              <a:off x="5359320" y="5207040"/>
              <a:ext cx="0" cy="3934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Straight Connector 10"/>
            <p:cNvSpPr/>
            <p:nvPr/>
          </p:nvSpPr>
          <p:spPr>
            <a:xfrm>
              <a:off x="5854680" y="3962520"/>
              <a:ext cx="0" cy="111744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Straight Connector 11"/>
            <p:cNvSpPr/>
            <p:nvPr/>
          </p:nvSpPr>
          <p:spPr>
            <a:xfrm flipV="1">
              <a:off x="6959880" y="5220000"/>
              <a:ext cx="0" cy="133344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TextBox 12"/>
            <p:cNvSpPr/>
            <p:nvPr/>
          </p:nvSpPr>
          <p:spPr>
            <a:xfrm>
              <a:off x="2933640" y="5842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A</a:t>
              </a:r>
              <a:endParaRPr b="0" lang="en-US" sz="1800" spc="-1" strike="noStrike">
                <a:solidFill>
                  <a:srgbClr val="000000"/>
                </a:solidFill>
                <a:latin typeface="Calibri"/>
              </a:endParaRPr>
            </a:p>
          </p:txBody>
        </p:sp>
        <p:sp>
          <p:nvSpPr>
            <p:cNvPr id="107" name="TextBox 13"/>
            <p:cNvSpPr/>
            <p:nvPr/>
          </p:nvSpPr>
          <p:spPr>
            <a:xfrm>
              <a:off x="3263760" y="2768760"/>
              <a:ext cx="16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B (Gut Drop)</a:t>
              </a:r>
              <a:endParaRPr b="0" lang="en-US" sz="1800" spc="-1" strike="noStrike">
                <a:solidFill>
                  <a:srgbClr val="000000"/>
                </a:solidFill>
                <a:latin typeface="Calibri"/>
              </a:endParaRPr>
            </a:p>
          </p:txBody>
        </p:sp>
        <p:sp>
          <p:nvSpPr>
            <p:cNvPr id="108" name="TextBox 14"/>
            <p:cNvSpPr/>
            <p:nvPr/>
          </p:nvSpPr>
          <p:spPr>
            <a:xfrm>
              <a:off x="3327480" y="5613840"/>
              <a:ext cx="73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6 m</a:t>
              </a:r>
              <a:endParaRPr b="0" lang="en-US" sz="1600" spc="-1" strike="noStrike">
                <a:solidFill>
                  <a:srgbClr val="000000"/>
                </a:solidFill>
                <a:latin typeface="Calibri"/>
              </a:endParaRPr>
            </a:p>
          </p:txBody>
        </p:sp>
        <p:sp>
          <p:nvSpPr>
            <p:cNvPr id="109" name="TextBox 15"/>
            <p:cNvSpPr/>
            <p:nvPr/>
          </p:nvSpPr>
          <p:spPr>
            <a:xfrm>
              <a:off x="3822840" y="4013280"/>
              <a:ext cx="761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32 m</a:t>
              </a:r>
              <a:endParaRPr b="0" lang="en-US" sz="1500" spc="-1" strike="noStrike">
                <a:solidFill>
                  <a:srgbClr val="000000"/>
                </a:solidFill>
                <a:latin typeface="Calibri"/>
              </a:endParaRPr>
            </a:p>
          </p:txBody>
        </p:sp>
        <p:sp>
          <p:nvSpPr>
            <p:cNvPr id="110" name="TextBox 16"/>
            <p:cNvSpPr/>
            <p:nvPr/>
          </p:nvSpPr>
          <p:spPr>
            <a:xfrm>
              <a:off x="4749840" y="5308920"/>
              <a:ext cx="73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3 m</a:t>
              </a:r>
              <a:endParaRPr b="0" lang="en-US" sz="1600" spc="-1" strike="noStrike">
                <a:solidFill>
                  <a:srgbClr val="000000"/>
                </a:solidFill>
                <a:latin typeface="Calibri"/>
              </a:endParaRPr>
            </a:p>
          </p:txBody>
        </p:sp>
        <p:sp>
          <p:nvSpPr>
            <p:cNvPr id="111" name="TextBox 17"/>
            <p:cNvSpPr/>
            <p:nvPr/>
          </p:nvSpPr>
          <p:spPr>
            <a:xfrm>
              <a:off x="6261120" y="4407120"/>
              <a:ext cx="761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18 m</a:t>
              </a:r>
              <a:endParaRPr b="0" lang="en-US" sz="1500" spc="-1" strike="noStrike">
                <a:solidFill>
                  <a:srgbClr val="000000"/>
                </a:solidFill>
                <a:latin typeface="Calibri"/>
              </a:endParaRPr>
            </a:p>
          </p:txBody>
        </p:sp>
        <p:sp>
          <p:nvSpPr>
            <p:cNvPr id="112" name="TextBox 18"/>
            <p:cNvSpPr/>
            <p:nvPr/>
          </p:nvSpPr>
          <p:spPr>
            <a:xfrm>
              <a:off x="7480440" y="5880600"/>
              <a:ext cx="838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21 m</a:t>
              </a:r>
              <a:endParaRPr b="0" lang="en-US" sz="1500" spc="-1" strike="noStrike">
                <a:solidFill>
                  <a:srgbClr val="000000"/>
                </a:solidFill>
                <a:latin typeface="Calibri"/>
              </a:endParaRPr>
            </a:p>
          </p:txBody>
        </p:sp>
        <p:sp>
          <p:nvSpPr>
            <p:cNvPr id="113" name="TextBox 19"/>
            <p:cNvSpPr/>
            <p:nvPr/>
          </p:nvSpPr>
          <p:spPr>
            <a:xfrm>
              <a:off x="5270400" y="5791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C</a:t>
              </a:r>
              <a:endParaRPr b="0" lang="en-US" sz="1800" spc="-1" strike="noStrike">
                <a:solidFill>
                  <a:srgbClr val="000000"/>
                </a:solidFill>
                <a:latin typeface="Calibri"/>
              </a:endParaRPr>
            </a:p>
          </p:txBody>
        </p:sp>
        <p:sp>
          <p:nvSpPr>
            <p:cNvPr id="114" name="TextBox 20"/>
            <p:cNvSpPr/>
            <p:nvPr/>
          </p:nvSpPr>
          <p:spPr>
            <a:xfrm>
              <a:off x="5639040" y="3657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D (Queasy Hill)</a:t>
              </a:r>
              <a:endParaRPr b="0" lang="en-US" sz="1800" spc="-1" strike="noStrike">
                <a:solidFill>
                  <a:srgbClr val="000000"/>
                </a:solidFill>
                <a:latin typeface="Calibri"/>
              </a:endParaRPr>
            </a:p>
          </p:txBody>
        </p:sp>
        <p:sp>
          <p:nvSpPr>
            <p:cNvPr id="115" name="TextBox 21"/>
            <p:cNvSpPr/>
            <p:nvPr/>
          </p:nvSpPr>
          <p:spPr>
            <a:xfrm>
              <a:off x="6819840" y="666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1"/>
          <p:cNvSpPr/>
          <p:nvPr/>
        </p:nvSpPr>
        <p:spPr>
          <a:xfrm>
            <a:off x="101520" y="1917720"/>
            <a:ext cx="10185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1. Complete the tab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2. Fill in the elevations at each poi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3. </a:t>
            </a:r>
            <a:r>
              <a:rPr b="0" lang="en-US" sz="2400" spc="-1" strike="noStrike">
                <a:solidFill>
                  <a:srgbClr val="800080"/>
                </a:solidFill>
                <a:latin typeface="Comic Sans MS - 24"/>
              </a:rPr>
              <a:t>	</a:t>
            </a:r>
            <a:r>
              <a:rPr b="0" lang="en-CA" sz="2400" spc="-1" strike="noStrike">
                <a:solidFill>
                  <a:srgbClr val="800080"/>
                </a:solidFill>
                <a:latin typeface="Comic Sans MS - 24"/>
              </a:rPr>
              <a:t>a) What is the largest val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CA" sz="2400" spc="-1" strike="noStrike">
                <a:solidFill>
                  <a:srgbClr val="800080"/>
                </a:solidFill>
                <a:latin typeface="Comic Sans MS - 24"/>
              </a:rPr>
              <a:t>b) What is the smallest val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c) What is the </a:t>
            </a:r>
            <a:r>
              <a:rPr b="0" lang="en-US" sz="2400" spc="-1" strike="noStrike">
                <a:solidFill>
                  <a:srgbClr val="ff0000"/>
                </a:solidFill>
                <a:latin typeface="Comic Sans MS - 24"/>
              </a:rPr>
              <a:t>range</a:t>
            </a:r>
            <a:r>
              <a:rPr b="0" lang="en-CA" sz="2400" spc="-1" strike="noStrike">
                <a:solidFill>
                  <a:srgbClr val="800080"/>
                </a:solidFill>
                <a:latin typeface="Comic Sans MS - 24"/>
              </a:rPr>
              <a:t> of heights for the roller coast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4. Do you think there are any outliers in the set of 7 locations on the roller coaster?  If so, what are they?</a:t>
            </a:r>
            <a:endParaRPr b="0" lang="en-US" sz="2400" spc="-1" strike="noStrike">
              <a:solidFill>
                <a:srgbClr val="000000"/>
              </a:solidFill>
              <a:latin typeface="Calibri"/>
            </a:endParaRPr>
          </a:p>
        </p:txBody>
      </p:sp>
      <p:graphicFrame>
        <p:nvGraphicFramePr>
          <p:cNvPr id="117" name=""/>
          <p:cNvGraphicFramePr/>
          <p:nvPr/>
        </p:nvGraphicFramePr>
        <p:xfrm>
          <a:off x="507960" y="2362320"/>
          <a:ext cx="8547120" cy="1706400"/>
        </p:xfrm>
        <a:graphic>
          <a:graphicData uri="http://schemas.openxmlformats.org/drawingml/2006/table">
            <a:tbl>
              <a:tblPr/>
              <a:tblGrid>
                <a:gridCol w="2374920"/>
                <a:gridCol w="939960"/>
                <a:gridCol w="914400"/>
                <a:gridCol w="749160"/>
                <a:gridCol w="914400"/>
                <a:gridCol w="952560"/>
                <a:gridCol w="762120"/>
                <a:gridCol w="93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Location Along Ride</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tart</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B</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C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nd</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 20"/>
                        </a:rPr>
                        <a:t>Elevation Relative to Starting Point (m)</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grpSp>
        <p:nvGrpSpPr>
          <p:cNvPr id="118" name="Group 22"/>
          <p:cNvGrpSpPr/>
          <p:nvPr/>
        </p:nvGrpSpPr>
        <p:grpSpPr>
          <a:xfrm>
            <a:off x="1701720" y="12600"/>
            <a:ext cx="5867640" cy="2417760"/>
            <a:chOff x="1701720" y="12600"/>
            <a:chExt cx="5867640" cy="2417760"/>
          </a:xfrm>
        </p:grpSpPr>
        <p:sp>
          <p:nvSpPr>
            <p:cNvPr id="119" name="Straight Connector 3"/>
            <p:cNvSpPr/>
            <p:nvPr/>
          </p:nvSpPr>
          <p:spPr>
            <a:xfrm>
              <a:off x="2250720" y="1344600"/>
              <a:ext cx="4740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Box 4"/>
            <p:cNvSpPr/>
            <p:nvPr/>
          </p:nvSpPr>
          <p:spPr>
            <a:xfrm>
              <a:off x="1701720" y="1155600"/>
              <a:ext cx="533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Star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0 m</a:t>
              </a:r>
              <a:endParaRPr b="0" lang="en-US" sz="1000" spc="-1" strike="noStrike">
                <a:solidFill>
                  <a:srgbClr val="000000"/>
                </a:solidFill>
                <a:latin typeface="Calibri"/>
              </a:endParaRPr>
            </a:p>
          </p:txBody>
        </p:sp>
        <p:sp>
          <p:nvSpPr>
            <p:cNvPr id="121" name="TextBox 5"/>
            <p:cNvSpPr/>
            <p:nvPr/>
          </p:nvSpPr>
          <p:spPr>
            <a:xfrm>
              <a:off x="7112160" y="11426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End</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0 m</a:t>
              </a:r>
              <a:endParaRPr b="0" lang="en-US" sz="1000" spc="-1" strike="noStrike">
                <a:solidFill>
                  <a:srgbClr val="000000"/>
                </a:solidFill>
                <a:latin typeface="Calibri"/>
              </a:endParaRPr>
            </a:p>
          </p:txBody>
        </p:sp>
        <p:sp>
          <p:nvSpPr>
            <p:cNvPr id="122" name="Freeform 6"/>
            <p:cNvSpPr/>
            <p:nvPr/>
          </p:nvSpPr>
          <p:spPr>
            <a:xfrm>
              <a:off x="2250360" y="227160"/>
              <a:ext cx="4748760" cy="1908720"/>
            </a:xfrm>
            <a:custGeom>
              <a:avLst/>
              <a:gdLst>
                <a:gd name="textAreaLeft" fmla="*/ 0 w 4748760"/>
                <a:gd name="textAreaRight" fmla="*/ 4749120 w 4748760"/>
                <a:gd name="textAreaTop" fmla="*/ 0 h 1908720"/>
                <a:gd name="textAreaBottom" fmla="*/ 1909080 h 1908720"/>
              </a:gdLst>
              <a:ahLst/>
              <a:rect l="textAreaLeft" t="textAreaTop" r="textAreaRight" b="textAreaBottom"/>
              <a:pathLst>
                <a:path w="4748531" h="1908811">
                  <a:moveTo>
                    <a:pt x="0" y="1096010"/>
                  </a:moveTo>
                  <a:lnTo>
                    <a:pt x="3811" y="1099821"/>
                  </a:lnTo>
                  <a:lnTo>
                    <a:pt x="6350" y="1099821"/>
                  </a:lnTo>
                  <a:lnTo>
                    <a:pt x="8890" y="1099821"/>
                  </a:lnTo>
                  <a:lnTo>
                    <a:pt x="11431" y="1098551"/>
                  </a:lnTo>
                  <a:lnTo>
                    <a:pt x="13971" y="1098551"/>
                  </a:lnTo>
                  <a:lnTo>
                    <a:pt x="35561" y="1102360"/>
                  </a:lnTo>
                  <a:lnTo>
                    <a:pt x="146050" y="1103631"/>
                  </a:lnTo>
                  <a:lnTo>
                    <a:pt x="149861" y="1102360"/>
                  </a:lnTo>
                  <a:lnTo>
                    <a:pt x="156211" y="1099821"/>
                  </a:lnTo>
                  <a:lnTo>
                    <a:pt x="160021" y="1098551"/>
                  </a:lnTo>
                  <a:lnTo>
                    <a:pt x="162561" y="1099821"/>
                  </a:lnTo>
                  <a:lnTo>
                    <a:pt x="165100" y="1101090"/>
                  </a:lnTo>
                  <a:lnTo>
                    <a:pt x="167640" y="1101090"/>
                  </a:lnTo>
                  <a:lnTo>
                    <a:pt x="171450" y="1099821"/>
                  </a:lnTo>
                  <a:lnTo>
                    <a:pt x="172721" y="1098551"/>
                  </a:lnTo>
                  <a:lnTo>
                    <a:pt x="180340" y="1097281"/>
                  </a:lnTo>
                  <a:lnTo>
                    <a:pt x="232411" y="1096010"/>
                  </a:lnTo>
                  <a:lnTo>
                    <a:pt x="252731" y="1090931"/>
                  </a:lnTo>
                  <a:lnTo>
                    <a:pt x="400050" y="1089660"/>
                  </a:lnTo>
                  <a:lnTo>
                    <a:pt x="405131" y="1089660"/>
                  </a:lnTo>
                  <a:lnTo>
                    <a:pt x="408940" y="1089660"/>
                  </a:lnTo>
                  <a:lnTo>
                    <a:pt x="420371" y="1093471"/>
                  </a:lnTo>
                  <a:lnTo>
                    <a:pt x="429261" y="1096010"/>
                  </a:lnTo>
                  <a:lnTo>
                    <a:pt x="438150" y="1093471"/>
                  </a:lnTo>
                  <a:lnTo>
                    <a:pt x="443231" y="1092201"/>
                  </a:lnTo>
                  <a:lnTo>
                    <a:pt x="447040" y="1092201"/>
                  </a:lnTo>
                  <a:lnTo>
                    <a:pt x="449581" y="1092201"/>
                  </a:lnTo>
                  <a:lnTo>
                    <a:pt x="453390" y="1093471"/>
                  </a:lnTo>
                  <a:lnTo>
                    <a:pt x="466090" y="1096010"/>
                  </a:lnTo>
                  <a:lnTo>
                    <a:pt x="528321" y="1097281"/>
                  </a:lnTo>
                  <a:lnTo>
                    <a:pt x="548640" y="1102360"/>
                  </a:lnTo>
                  <a:lnTo>
                    <a:pt x="563881" y="1103631"/>
                  </a:lnTo>
                  <a:lnTo>
                    <a:pt x="567690" y="1103631"/>
                  </a:lnTo>
                  <a:lnTo>
                    <a:pt x="588011" y="1115060"/>
                  </a:lnTo>
                  <a:lnTo>
                    <a:pt x="598171" y="1117601"/>
                  </a:lnTo>
                  <a:lnTo>
                    <a:pt x="604521" y="1122681"/>
                  </a:lnTo>
                  <a:lnTo>
                    <a:pt x="609600" y="1127760"/>
                  </a:lnTo>
                  <a:lnTo>
                    <a:pt x="613411" y="1129031"/>
                  </a:lnTo>
                  <a:lnTo>
                    <a:pt x="626111" y="1131571"/>
                  </a:lnTo>
                  <a:lnTo>
                    <a:pt x="631190" y="1135381"/>
                  </a:lnTo>
                  <a:lnTo>
                    <a:pt x="640081" y="1141731"/>
                  </a:lnTo>
                  <a:lnTo>
                    <a:pt x="643890" y="1143001"/>
                  </a:lnTo>
                  <a:lnTo>
                    <a:pt x="654050" y="1145540"/>
                  </a:lnTo>
                  <a:lnTo>
                    <a:pt x="661671" y="1149351"/>
                  </a:lnTo>
                  <a:lnTo>
                    <a:pt x="669290" y="1155701"/>
                  </a:lnTo>
                  <a:lnTo>
                    <a:pt x="671831" y="1156971"/>
                  </a:lnTo>
                  <a:lnTo>
                    <a:pt x="684531" y="1159510"/>
                  </a:lnTo>
                  <a:lnTo>
                    <a:pt x="690881" y="1163321"/>
                  </a:lnTo>
                  <a:lnTo>
                    <a:pt x="698500" y="1169671"/>
                  </a:lnTo>
                  <a:lnTo>
                    <a:pt x="702311" y="1170940"/>
                  </a:lnTo>
                  <a:lnTo>
                    <a:pt x="713740" y="1173481"/>
                  </a:lnTo>
                  <a:lnTo>
                    <a:pt x="720090" y="1177290"/>
                  </a:lnTo>
                  <a:lnTo>
                    <a:pt x="730250" y="1184910"/>
                  </a:lnTo>
                  <a:lnTo>
                    <a:pt x="748031" y="1191260"/>
                  </a:lnTo>
                  <a:lnTo>
                    <a:pt x="750571" y="1193801"/>
                  </a:lnTo>
                  <a:lnTo>
                    <a:pt x="751840" y="1196340"/>
                  </a:lnTo>
                  <a:lnTo>
                    <a:pt x="754381" y="1197610"/>
                  </a:lnTo>
                  <a:lnTo>
                    <a:pt x="759461" y="1202690"/>
                  </a:lnTo>
                  <a:lnTo>
                    <a:pt x="763271" y="1203960"/>
                  </a:lnTo>
                  <a:lnTo>
                    <a:pt x="772161" y="1207771"/>
                  </a:lnTo>
                  <a:lnTo>
                    <a:pt x="791211" y="1209040"/>
                  </a:lnTo>
                  <a:lnTo>
                    <a:pt x="795021" y="1210310"/>
                  </a:lnTo>
                  <a:lnTo>
                    <a:pt x="798831" y="1214121"/>
                  </a:lnTo>
                  <a:lnTo>
                    <a:pt x="801371" y="1216660"/>
                  </a:lnTo>
                  <a:lnTo>
                    <a:pt x="803911" y="1219201"/>
                  </a:lnTo>
                  <a:lnTo>
                    <a:pt x="828040" y="1230631"/>
                  </a:lnTo>
                  <a:lnTo>
                    <a:pt x="831850" y="1233171"/>
                  </a:lnTo>
                  <a:lnTo>
                    <a:pt x="835661" y="1234440"/>
                  </a:lnTo>
                  <a:lnTo>
                    <a:pt x="847090" y="1236981"/>
                  </a:lnTo>
                  <a:lnTo>
                    <a:pt x="869950" y="1248410"/>
                  </a:lnTo>
                  <a:lnTo>
                    <a:pt x="878840" y="1252221"/>
                  </a:lnTo>
                  <a:lnTo>
                    <a:pt x="886461" y="1257301"/>
                  </a:lnTo>
                  <a:lnTo>
                    <a:pt x="891540" y="1261110"/>
                  </a:lnTo>
                  <a:lnTo>
                    <a:pt x="895350" y="1263651"/>
                  </a:lnTo>
                  <a:lnTo>
                    <a:pt x="916940" y="1270001"/>
                  </a:lnTo>
                  <a:lnTo>
                    <a:pt x="932181" y="1277621"/>
                  </a:lnTo>
                  <a:lnTo>
                    <a:pt x="939800" y="1278890"/>
                  </a:lnTo>
                  <a:lnTo>
                    <a:pt x="943611" y="1280160"/>
                  </a:lnTo>
                  <a:lnTo>
                    <a:pt x="949961" y="1286510"/>
                  </a:lnTo>
                  <a:lnTo>
                    <a:pt x="953771" y="1289051"/>
                  </a:lnTo>
                  <a:lnTo>
                    <a:pt x="969011" y="1295401"/>
                  </a:lnTo>
                  <a:lnTo>
                    <a:pt x="984250" y="1304290"/>
                  </a:lnTo>
                  <a:lnTo>
                    <a:pt x="991871" y="1305560"/>
                  </a:lnTo>
                  <a:lnTo>
                    <a:pt x="998221" y="1308101"/>
                  </a:lnTo>
                  <a:lnTo>
                    <a:pt x="1009651" y="1314451"/>
                  </a:lnTo>
                  <a:lnTo>
                    <a:pt x="1017270" y="1318260"/>
                  </a:lnTo>
                  <a:lnTo>
                    <a:pt x="1021081" y="1319531"/>
                  </a:lnTo>
                  <a:lnTo>
                    <a:pt x="1032511" y="1322071"/>
                  </a:lnTo>
                  <a:lnTo>
                    <a:pt x="1038861" y="1325881"/>
                  </a:lnTo>
                  <a:lnTo>
                    <a:pt x="1047751" y="1332231"/>
                  </a:lnTo>
                  <a:lnTo>
                    <a:pt x="1050290" y="1333501"/>
                  </a:lnTo>
                  <a:lnTo>
                    <a:pt x="1061720" y="1336040"/>
                  </a:lnTo>
                  <a:lnTo>
                    <a:pt x="1071881" y="1341121"/>
                  </a:lnTo>
                  <a:lnTo>
                    <a:pt x="1076961" y="1342390"/>
                  </a:lnTo>
                  <a:lnTo>
                    <a:pt x="1084581" y="1347471"/>
                  </a:lnTo>
                  <a:lnTo>
                    <a:pt x="1092201" y="1352551"/>
                  </a:lnTo>
                  <a:lnTo>
                    <a:pt x="1103631" y="1358901"/>
                  </a:lnTo>
                  <a:lnTo>
                    <a:pt x="1113790" y="1365251"/>
                  </a:lnTo>
                  <a:lnTo>
                    <a:pt x="1125220" y="1371601"/>
                  </a:lnTo>
                  <a:lnTo>
                    <a:pt x="1154431" y="1397001"/>
                  </a:lnTo>
                  <a:lnTo>
                    <a:pt x="1158240" y="1398271"/>
                  </a:lnTo>
                  <a:lnTo>
                    <a:pt x="1177290" y="1410971"/>
                  </a:lnTo>
                  <a:lnTo>
                    <a:pt x="1179831" y="1412241"/>
                  </a:lnTo>
                  <a:lnTo>
                    <a:pt x="1184911" y="1416050"/>
                  </a:lnTo>
                  <a:lnTo>
                    <a:pt x="1195070" y="1421131"/>
                  </a:lnTo>
                  <a:lnTo>
                    <a:pt x="1206501" y="1428750"/>
                  </a:lnTo>
                  <a:lnTo>
                    <a:pt x="1209040" y="1430021"/>
                  </a:lnTo>
                  <a:lnTo>
                    <a:pt x="1212851" y="1432560"/>
                  </a:lnTo>
                  <a:lnTo>
                    <a:pt x="1225551" y="1435100"/>
                  </a:lnTo>
                  <a:lnTo>
                    <a:pt x="1235711" y="1440181"/>
                  </a:lnTo>
                  <a:lnTo>
                    <a:pt x="1248411" y="1441450"/>
                  </a:lnTo>
                  <a:lnTo>
                    <a:pt x="1297940" y="1442721"/>
                  </a:lnTo>
                  <a:lnTo>
                    <a:pt x="1301751" y="1441450"/>
                  </a:lnTo>
                  <a:lnTo>
                    <a:pt x="1316990" y="1428750"/>
                  </a:lnTo>
                  <a:lnTo>
                    <a:pt x="1336040" y="1412241"/>
                  </a:lnTo>
                  <a:lnTo>
                    <a:pt x="1337311" y="1408431"/>
                  </a:lnTo>
                  <a:lnTo>
                    <a:pt x="1341120" y="1397001"/>
                  </a:lnTo>
                  <a:lnTo>
                    <a:pt x="1346201" y="1388110"/>
                  </a:lnTo>
                  <a:lnTo>
                    <a:pt x="1347470" y="1380490"/>
                  </a:lnTo>
                  <a:lnTo>
                    <a:pt x="1348740" y="1376681"/>
                  </a:lnTo>
                  <a:lnTo>
                    <a:pt x="1356361" y="1370331"/>
                  </a:lnTo>
                  <a:lnTo>
                    <a:pt x="1357631" y="1366521"/>
                  </a:lnTo>
                  <a:lnTo>
                    <a:pt x="1375411" y="1327151"/>
                  </a:lnTo>
                  <a:lnTo>
                    <a:pt x="1377951" y="1311910"/>
                  </a:lnTo>
                  <a:lnTo>
                    <a:pt x="1379220" y="1294131"/>
                  </a:lnTo>
                  <a:lnTo>
                    <a:pt x="1391920" y="1248410"/>
                  </a:lnTo>
                  <a:lnTo>
                    <a:pt x="1393190" y="1229360"/>
                  </a:lnTo>
                  <a:lnTo>
                    <a:pt x="1398270" y="1219201"/>
                  </a:lnTo>
                  <a:lnTo>
                    <a:pt x="1402081" y="1201421"/>
                  </a:lnTo>
                  <a:lnTo>
                    <a:pt x="1404620" y="1197610"/>
                  </a:lnTo>
                  <a:lnTo>
                    <a:pt x="1407161" y="1168401"/>
                  </a:lnTo>
                  <a:lnTo>
                    <a:pt x="1408431" y="1146810"/>
                  </a:lnTo>
                  <a:lnTo>
                    <a:pt x="1414781" y="1098551"/>
                  </a:lnTo>
                  <a:lnTo>
                    <a:pt x="1416051" y="1080771"/>
                  </a:lnTo>
                  <a:lnTo>
                    <a:pt x="1418590" y="1066801"/>
                  </a:lnTo>
                  <a:lnTo>
                    <a:pt x="1419861" y="1060451"/>
                  </a:lnTo>
                  <a:lnTo>
                    <a:pt x="1417320" y="1045210"/>
                  </a:lnTo>
                  <a:lnTo>
                    <a:pt x="1422401" y="1002031"/>
                  </a:lnTo>
                  <a:lnTo>
                    <a:pt x="1422401" y="977901"/>
                  </a:lnTo>
                  <a:lnTo>
                    <a:pt x="1424940" y="969010"/>
                  </a:lnTo>
                  <a:lnTo>
                    <a:pt x="1427481" y="958851"/>
                  </a:lnTo>
                  <a:lnTo>
                    <a:pt x="1431290" y="924560"/>
                  </a:lnTo>
                  <a:lnTo>
                    <a:pt x="1436370" y="905510"/>
                  </a:lnTo>
                  <a:lnTo>
                    <a:pt x="1437640" y="848360"/>
                  </a:lnTo>
                  <a:lnTo>
                    <a:pt x="1437640" y="730251"/>
                  </a:lnTo>
                  <a:lnTo>
                    <a:pt x="1440181" y="721360"/>
                  </a:lnTo>
                  <a:lnTo>
                    <a:pt x="1442720" y="712471"/>
                  </a:lnTo>
                  <a:lnTo>
                    <a:pt x="1445261" y="676910"/>
                  </a:lnTo>
                  <a:lnTo>
                    <a:pt x="1445261" y="624840"/>
                  </a:lnTo>
                  <a:lnTo>
                    <a:pt x="1446531" y="615951"/>
                  </a:lnTo>
                  <a:lnTo>
                    <a:pt x="1450340" y="605790"/>
                  </a:lnTo>
                  <a:lnTo>
                    <a:pt x="1459231" y="549911"/>
                  </a:lnTo>
                  <a:lnTo>
                    <a:pt x="1459231" y="494030"/>
                  </a:lnTo>
                  <a:lnTo>
                    <a:pt x="1459231" y="469901"/>
                  </a:lnTo>
                  <a:lnTo>
                    <a:pt x="1461770" y="459740"/>
                  </a:lnTo>
                  <a:lnTo>
                    <a:pt x="1464311" y="450851"/>
                  </a:lnTo>
                  <a:lnTo>
                    <a:pt x="1466851" y="415290"/>
                  </a:lnTo>
                  <a:lnTo>
                    <a:pt x="1466851" y="378461"/>
                  </a:lnTo>
                  <a:lnTo>
                    <a:pt x="1469390" y="368301"/>
                  </a:lnTo>
                  <a:lnTo>
                    <a:pt x="1471931" y="358140"/>
                  </a:lnTo>
                  <a:lnTo>
                    <a:pt x="1474470" y="303530"/>
                  </a:lnTo>
                  <a:lnTo>
                    <a:pt x="1474470" y="243840"/>
                  </a:lnTo>
                  <a:lnTo>
                    <a:pt x="1475740" y="240030"/>
                  </a:lnTo>
                  <a:lnTo>
                    <a:pt x="1479551" y="229871"/>
                  </a:lnTo>
                  <a:lnTo>
                    <a:pt x="1480820" y="212090"/>
                  </a:lnTo>
                  <a:lnTo>
                    <a:pt x="1482090" y="207011"/>
                  </a:lnTo>
                  <a:lnTo>
                    <a:pt x="1480820" y="204471"/>
                  </a:lnTo>
                  <a:lnTo>
                    <a:pt x="1478281" y="198121"/>
                  </a:lnTo>
                  <a:lnTo>
                    <a:pt x="1477011" y="193040"/>
                  </a:lnTo>
                  <a:lnTo>
                    <a:pt x="1479551" y="185421"/>
                  </a:lnTo>
                  <a:lnTo>
                    <a:pt x="1479551" y="181611"/>
                  </a:lnTo>
                  <a:lnTo>
                    <a:pt x="1477011" y="172721"/>
                  </a:lnTo>
                  <a:lnTo>
                    <a:pt x="1477011" y="167641"/>
                  </a:lnTo>
                  <a:lnTo>
                    <a:pt x="1478281" y="165100"/>
                  </a:lnTo>
                  <a:lnTo>
                    <a:pt x="1479551" y="162561"/>
                  </a:lnTo>
                  <a:lnTo>
                    <a:pt x="1479551" y="160021"/>
                  </a:lnTo>
                  <a:lnTo>
                    <a:pt x="1478281" y="156211"/>
                  </a:lnTo>
                  <a:lnTo>
                    <a:pt x="1477011" y="153671"/>
                  </a:lnTo>
                  <a:lnTo>
                    <a:pt x="1475740" y="147321"/>
                  </a:lnTo>
                  <a:lnTo>
                    <a:pt x="1474470" y="91441"/>
                  </a:lnTo>
                  <a:lnTo>
                    <a:pt x="1474470" y="63500"/>
                  </a:lnTo>
                  <a:lnTo>
                    <a:pt x="1477011" y="55880"/>
                  </a:lnTo>
                  <a:lnTo>
                    <a:pt x="1480820" y="48261"/>
                  </a:lnTo>
                  <a:lnTo>
                    <a:pt x="1485901" y="38100"/>
                  </a:lnTo>
                  <a:lnTo>
                    <a:pt x="1488440" y="33021"/>
                  </a:lnTo>
                  <a:lnTo>
                    <a:pt x="1489711" y="31750"/>
                  </a:lnTo>
                  <a:lnTo>
                    <a:pt x="1498601" y="24130"/>
                  </a:lnTo>
                  <a:lnTo>
                    <a:pt x="1501140" y="21591"/>
                  </a:lnTo>
                  <a:lnTo>
                    <a:pt x="1502411" y="19050"/>
                  </a:lnTo>
                  <a:lnTo>
                    <a:pt x="1511301" y="7621"/>
                  </a:lnTo>
                  <a:lnTo>
                    <a:pt x="1515111" y="6350"/>
                  </a:lnTo>
                  <a:lnTo>
                    <a:pt x="1520190" y="2541"/>
                  </a:lnTo>
                  <a:lnTo>
                    <a:pt x="1532890" y="1271"/>
                  </a:lnTo>
                  <a:lnTo>
                    <a:pt x="1543051" y="0"/>
                  </a:lnTo>
                  <a:lnTo>
                    <a:pt x="1550670" y="2541"/>
                  </a:lnTo>
                  <a:lnTo>
                    <a:pt x="1558290" y="6350"/>
                  </a:lnTo>
                  <a:lnTo>
                    <a:pt x="1568451" y="11430"/>
                  </a:lnTo>
                  <a:lnTo>
                    <a:pt x="1573531" y="12700"/>
                  </a:lnTo>
                  <a:lnTo>
                    <a:pt x="1574801" y="15241"/>
                  </a:lnTo>
                  <a:lnTo>
                    <a:pt x="1579881" y="21591"/>
                  </a:lnTo>
                  <a:lnTo>
                    <a:pt x="1583690" y="24130"/>
                  </a:lnTo>
                  <a:lnTo>
                    <a:pt x="1587501" y="25400"/>
                  </a:lnTo>
                  <a:lnTo>
                    <a:pt x="1592581" y="26671"/>
                  </a:lnTo>
                  <a:lnTo>
                    <a:pt x="1595120" y="29211"/>
                  </a:lnTo>
                  <a:lnTo>
                    <a:pt x="1596390" y="31750"/>
                  </a:lnTo>
                  <a:lnTo>
                    <a:pt x="1604011" y="48261"/>
                  </a:lnTo>
                  <a:lnTo>
                    <a:pt x="1610361" y="58421"/>
                  </a:lnTo>
                  <a:lnTo>
                    <a:pt x="1617981" y="66041"/>
                  </a:lnTo>
                  <a:lnTo>
                    <a:pt x="1619251" y="68580"/>
                  </a:lnTo>
                  <a:lnTo>
                    <a:pt x="1630681" y="102871"/>
                  </a:lnTo>
                  <a:lnTo>
                    <a:pt x="1640840" y="119380"/>
                  </a:lnTo>
                  <a:lnTo>
                    <a:pt x="1642111" y="128271"/>
                  </a:lnTo>
                  <a:lnTo>
                    <a:pt x="1645920" y="147321"/>
                  </a:lnTo>
                  <a:lnTo>
                    <a:pt x="1649731" y="158750"/>
                  </a:lnTo>
                  <a:lnTo>
                    <a:pt x="1652270" y="172721"/>
                  </a:lnTo>
                  <a:lnTo>
                    <a:pt x="1657351" y="181611"/>
                  </a:lnTo>
                  <a:lnTo>
                    <a:pt x="1658620" y="194311"/>
                  </a:lnTo>
                  <a:lnTo>
                    <a:pt x="1659890" y="250190"/>
                  </a:lnTo>
                  <a:lnTo>
                    <a:pt x="1659890" y="344171"/>
                  </a:lnTo>
                  <a:lnTo>
                    <a:pt x="1659890" y="347980"/>
                  </a:lnTo>
                  <a:lnTo>
                    <a:pt x="1664970" y="358140"/>
                  </a:lnTo>
                  <a:lnTo>
                    <a:pt x="1668781" y="375921"/>
                  </a:lnTo>
                  <a:lnTo>
                    <a:pt x="1672590" y="387351"/>
                  </a:lnTo>
                  <a:lnTo>
                    <a:pt x="1675131" y="401321"/>
                  </a:lnTo>
                  <a:lnTo>
                    <a:pt x="1675131" y="457201"/>
                  </a:lnTo>
                  <a:lnTo>
                    <a:pt x="1675131" y="506730"/>
                  </a:lnTo>
                  <a:lnTo>
                    <a:pt x="1672590" y="516890"/>
                  </a:lnTo>
                  <a:lnTo>
                    <a:pt x="1668781" y="528321"/>
                  </a:lnTo>
                  <a:lnTo>
                    <a:pt x="1667511" y="534671"/>
                  </a:lnTo>
                  <a:lnTo>
                    <a:pt x="1662431" y="547371"/>
                  </a:lnTo>
                  <a:lnTo>
                    <a:pt x="1659890" y="571501"/>
                  </a:lnTo>
                  <a:lnTo>
                    <a:pt x="1662431" y="580390"/>
                  </a:lnTo>
                  <a:lnTo>
                    <a:pt x="1664970" y="589281"/>
                  </a:lnTo>
                  <a:lnTo>
                    <a:pt x="1667511" y="613410"/>
                  </a:lnTo>
                  <a:lnTo>
                    <a:pt x="1664970" y="622301"/>
                  </a:lnTo>
                  <a:lnTo>
                    <a:pt x="1662431" y="631190"/>
                  </a:lnTo>
                  <a:lnTo>
                    <a:pt x="1659890" y="641351"/>
                  </a:lnTo>
                  <a:lnTo>
                    <a:pt x="1662431" y="650240"/>
                  </a:lnTo>
                  <a:lnTo>
                    <a:pt x="1666240" y="662940"/>
                  </a:lnTo>
                  <a:lnTo>
                    <a:pt x="1668781" y="715010"/>
                  </a:lnTo>
                  <a:lnTo>
                    <a:pt x="1672590" y="723901"/>
                  </a:lnTo>
                  <a:lnTo>
                    <a:pt x="1675131" y="762001"/>
                  </a:lnTo>
                  <a:lnTo>
                    <a:pt x="1675131" y="845821"/>
                  </a:lnTo>
                  <a:lnTo>
                    <a:pt x="1675131" y="849631"/>
                  </a:lnTo>
                  <a:lnTo>
                    <a:pt x="1680211" y="859790"/>
                  </a:lnTo>
                  <a:lnTo>
                    <a:pt x="1681481" y="880110"/>
                  </a:lnTo>
                  <a:lnTo>
                    <a:pt x="1682751" y="891540"/>
                  </a:lnTo>
                  <a:lnTo>
                    <a:pt x="1687831" y="914401"/>
                  </a:lnTo>
                  <a:lnTo>
                    <a:pt x="1689101" y="971551"/>
                  </a:lnTo>
                  <a:lnTo>
                    <a:pt x="1690370" y="990601"/>
                  </a:lnTo>
                  <a:lnTo>
                    <a:pt x="1696720" y="1019810"/>
                  </a:lnTo>
                  <a:lnTo>
                    <a:pt x="1701801" y="1029971"/>
                  </a:lnTo>
                  <a:lnTo>
                    <a:pt x="1704340" y="1047751"/>
                  </a:lnTo>
                  <a:lnTo>
                    <a:pt x="1704340" y="1073151"/>
                  </a:lnTo>
                  <a:lnTo>
                    <a:pt x="1704340" y="1076960"/>
                  </a:lnTo>
                  <a:lnTo>
                    <a:pt x="1715770" y="1098551"/>
                  </a:lnTo>
                  <a:lnTo>
                    <a:pt x="1718311" y="1112521"/>
                  </a:lnTo>
                  <a:lnTo>
                    <a:pt x="1719581" y="1126490"/>
                  </a:lnTo>
                  <a:lnTo>
                    <a:pt x="1725931" y="1149351"/>
                  </a:lnTo>
                  <a:lnTo>
                    <a:pt x="1741170" y="1172210"/>
                  </a:lnTo>
                  <a:lnTo>
                    <a:pt x="1756411" y="1189990"/>
                  </a:lnTo>
                  <a:lnTo>
                    <a:pt x="1757681" y="1195071"/>
                  </a:lnTo>
                  <a:lnTo>
                    <a:pt x="1761490" y="1196340"/>
                  </a:lnTo>
                  <a:lnTo>
                    <a:pt x="1764031" y="1198881"/>
                  </a:lnTo>
                  <a:lnTo>
                    <a:pt x="1778001" y="1205231"/>
                  </a:lnTo>
                  <a:lnTo>
                    <a:pt x="1781811" y="1207771"/>
                  </a:lnTo>
                  <a:lnTo>
                    <a:pt x="1790701" y="1217931"/>
                  </a:lnTo>
                  <a:lnTo>
                    <a:pt x="1791970" y="1220471"/>
                  </a:lnTo>
                  <a:lnTo>
                    <a:pt x="1827531" y="1235710"/>
                  </a:lnTo>
                  <a:lnTo>
                    <a:pt x="1831340" y="1235710"/>
                  </a:lnTo>
                  <a:lnTo>
                    <a:pt x="1836420" y="1239521"/>
                  </a:lnTo>
                  <a:lnTo>
                    <a:pt x="1850390" y="1247140"/>
                  </a:lnTo>
                  <a:lnTo>
                    <a:pt x="1858011" y="1249681"/>
                  </a:lnTo>
                  <a:lnTo>
                    <a:pt x="1864361" y="1252221"/>
                  </a:lnTo>
                  <a:lnTo>
                    <a:pt x="1877061" y="1257301"/>
                  </a:lnTo>
                  <a:lnTo>
                    <a:pt x="1885951" y="1263651"/>
                  </a:lnTo>
                  <a:lnTo>
                    <a:pt x="1939290" y="1283971"/>
                  </a:lnTo>
                  <a:lnTo>
                    <a:pt x="1953261" y="1291590"/>
                  </a:lnTo>
                  <a:lnTo>
                    <a:pt x="1993901" y="1301751"/>
                  </a:lnTo>
                  <a:lnTo>
                    <a:pt x="2006601" y="1306831"/>
                  </a:lnTo>
                  <a:lnTo>
                    <a:pt x="2018031" y="1308101"/>
                  </a:lnTo>
                  <a:lnTo>
                    <a:pt x="2020570" y="1308101"/>
                  </a:lnTo>
                  <a:lnTo>
                    <a:pt x="2024381" y="1309371"/>
                  </a:lnTo>
                  <a:lnTo>
                    <a:pt x="2047240" y="1319531"/>
                  </a:lnTo>
                  <a:lnTo>
                    <a:pt x="2062481" y="1322071"/>
                  </a:lnTo>
                  <a:lnTo>
                    <a:pt x="2113281" y="1323340"/>
                  </a:lnTo>
                  <a:lnTo>
                    <a:pt x="2124711" y="1327151"/>
                  </a:lnTo>
                  <a:lnTo>
                    <a:pt x="2142490" y="1328421"/>
                  </a:lnTo>
                  <a:lnTo>
                    <a:pt x="2146301" y="1329690"/>
                  </a:lnTo>
                  <a:lnTo>
                    <a:pt x="2151381" y="1329690"/>
                  </a:lnTo>
                  <a:lnTo>
                    <a:pt x="2161540" y="1334771"/>
                  </a:lnTo>
                  <a:lnTo>
                    <a:pt x="2179320" y="1336040"/>
                  </a:lnTo>
                  <a:lnTo>
                    <a:pt x="2272031" y="1336040"/>
                  </a:lnTo>
                  <a:lnTo>
                    <a:pt x="2275840" y="1337310"/>
                  </a:lnTo>
                  <a:lnTo>
                    <a:pt x="2288540" y="1342390"/>
                  </a:lnTo>
                  <a:lnTo>
                    <a:pt x="2298701" y="1342390"/>
                  </a:lnTo>
                  <a:lnTo>
                    <a:pt x="2302511" y="1343660"/>
                  </a:lnTo>
                  <a:lnTo>
                    <a:pt x="2312670" y="1346201"/>
                  </a:lnTo>
                  <a:lnTo>
                    <a:pt x="2321561" y="1348740"/>
                  </a:lnTo>
                  <a:lnTo>
                    <a:pt x="2335531" y="1351281"/>
                  </a:lnTo>
                  <a:lnTo>
                    <a:pt x="2345690" y="1355090"/>
                  </a:lnTo>
                  <a:lnTo>
                    <a:pt x="2364740" y="1357631"/>
                  </a:lnTo>
                  <a:lnTo>
                    <a:pt x="2387601" y="1358901"/>
                  </a:lnTo>
                  <a:lnTo>
                    <a:pt x="2407920" y="1363981"/>
                  </a:lnTo>
                  <a:lnTo>
                    <a:pt x="2426970" y="1365251"/>
                  </a:lnTo>
                  <a:lnTo>
                    <a:pt x="2440940" y="1370331"/>
                  </a:lnTo>
                  <a:lnTo>
                    <a:pt x="2468881" y="1371601"/>
                  </a:lnTo>
                  <a:lnTo>
                    <a:pt x="2524761" y="1371601"/>
                  </a:lnTo>
                  <a:lnTo>
                    <a:pt x="2533651" y="1374140"/>
                  </a:lnTo>
                  <a:lnTo>
                    <a:pt x="2543811" y="1376681"/>
                  </a:lnTo>
                  <a:lnTo>
                    <a:pt x="2586990" y="1380490"/>
                  </a:lnTo>
                  <a:lnTo>
                    <a:pt x="2595881" y="1384301"/>
                  </a:lnTo>
                  <a:lnTo>
                    <a:pt x="2616201" y="1385571"/>
                  </a:lnTo>
                  <a:lnTo>
                    <a:pt x="2618740" y="1385571"/>
                  </a:lnTo>
                  <a:lnTo>
                    <a:pt x="2625090" y="1383031"/>
                  </a:lnTo>
                  <a:lnTo>
                    <a:pt x="2639061" y="1369060"/>
                  </a:lnTo>
                  <a:lnTo>
                    <a:pt x="2641601" y="1366521"/>
                  </a:lnTo>
                  <a:lnTo>
                    <a:pt x="2650490" y="1347471"/>
                  </a:lnTo>
                  <a:lnTo>
                    <a:pt x="2656840" y="1339851"/>
                  </a:lnTo>
                  <a:lnTo>
                    <a:pt x="2659381" y="1332231"/>
                  </a:lnTo>
                  <a:lnTo>
                    <a:pt x="2669540" y="1315721"/>
                  </a:lnTo>
                  <a:lnTo>
                    <a:pt x="2672081" y="1308101"/>
                  </a:lnTo>
                  <a:lnTo>
                    <a:pt x="2674620" y="1297940"/>
                  </a:lnTo>
                  <a:lnTo>
                    <a:pt x="2687320" y="1266190"/>
                  </a:lnTo>
                  <a:lnTo>
                    <a:pt x="2692401" y="1243331"/>
                  </a:lnTo>
                  <a:lnTo>
                    <a:pt x="2697481" y="1234440"/>
                  </a:lnTo>
                  <a:lnTo>
                    <a:pt x="2700020" y="1230631"/>
                  </a:lnTo>
                  <a:lnTo>
                    <a:pt x="2701290" y="1220471"/>
                  </a:lnTo>
                  <a:lnTo>
                    <a:pt x="2706370" y="1191260"/>
                  </a:lnTo>
                  <a:lnTo>
                    <a:pt x="2708911" y="1179831"/>
                  </a:lnTo>
                  <a:lnTo>
                    <a:pt x="2719070" y="1122681"/>
                  </a:lnTo>
                  <a:lnTo>
                    <a:pt x="2725420" y="1103631"/>
                  </a:lnTo>
                  <a:lnTo>
                    <a:pt x="2726690" y="1045210"/>
                  </a:lnTo>
                  <a:lnTo>
                    <a:pt x="2731770" y="1028701"/>
                  </a:lnTo>
                  <a:lnTo>
                    <a:pt x="2735581" y="999490"/>
                  </a:lnTo>
                  <a:lnTo>
                    <a:pt x="2739390" y="988060"/>
                  </a:lnTo>
                  <a:lnTo>
                    <a:pt x="2743201" y="937260"/>
                  </a:lnTo>
                  <a:lnTo>
                    <a:pt x="2745740" y="924560"/>
                  </a:lnTo>
                  <a:lnTo>
                    <a:pt x="2749551" y="885190"/>
                  </a:lnTo>
                  <a:lnTo>
                    <a:pt x="2753361" y="872490"/>
                  </a:lnTo>
                  <a:lnTo>
                    <a:pt x="2757170" y="828040"/>
                  </a:lnTo>
                  <a:lnTo>
                    <a:pt x="2762251" y="811531"/>
                  </a:lnTo>
                  <a:lnTo>
                    <a:pt x="2763520" y="803910"/>
                  </a:lnTo>
                  <a:lnTo>
                    <a:pt x="2768601" y="789940"/>
                  </a:lnTo>
                  <a:lnTo>
                    <a:pt x="2771140" y="765810"/>
                  </a:lnTo>
                  <a:lnTo>
                    <a:pt x="2771140" y="749301"/>
                  </a:lnTo>
                  <a:lnTo>
                    <a:pt x="2776220" y="734060"/>
                  </a:lnTo>
                  <a:lnTo>
                    <a:pt x="2782570" y="718821"/>
                  </a:lnTo>
                  <a:lnTo>
                    <a:pt x="2785111" y="699771"/>
                  </a:lnTo>
                  <a:lnTo>
                    <a:pt x="2786381" y="657860"/>
                  </a:lnTo>
                  <a:lnTo>
                    <a:pt x="2791461" y="642621"/>
                  </a:lnTo>
                  <a:lnTo>
                    <a:pt x="2797811" y="627381"/>
                  </a:lnTo>
                  <a:lnTo>
                    <a:pt x="2799081" y="608331"/>
                  </a:lnTo>
                  <a:lnTo>
                    <a:pt x="2801620" y="585471"/>
                  </a:lnTo>
                  <a:lnTo>
                    <a:pt x="2804161" y="575311"/>
                  </a:lnTo>
                  <a:lnTo>
                    <a:pt x="2807970" y="567690"/>
                  </a:lnTo>
                  <a:lnTo>
                    <a:pt x="2810511" y="565151"/>
                  </a:lnTo>
                  <a:lnTo>
                    <a:pt x="2811781" y="562611"/>
                  </a:lnTo>
                  <a:lnTo>
                    <a:pt x="2810511" y="560071"/>
                  </a:lnTo>
                  <a:lnTo>
                    <a:pt x="2810511" y="556261"/>
                  </a:lnTo>
                  <a:lnTo>
                    <a:pt x="2810511" y="553721"/>
                  </a:lnTo>
                  <a:lnTo>
                    <a:pt x="2814320" y="535940"/>
                  </a:lnTo>
                  <a:lnTo>
                    <a:pt x="2815590" y="533401"/>
                  </a:lnTo>
                  <a:lnTo>
                    <a:pt x="2827020" y="514351"/>
                  </a:lnTo>
                  <a:lnTo>
                    <a:pt x="2833370" y="496571"/>
                  </a:lnTo>
                  <a:lnTo>
                    <a:pt x="2842261" y="483871"/>
                  </a:lnTo>
                  <a:lnTo>
                    <a:pt x="2848611" y="467361"/>
                  </a:lnTo>
                  <a:lnTo>
                    <a:pt x="2851151" y="466090"/>
                  </a:lnTo>
                  <a:lnTo>
                    <a:pt x="2852420" y="463551"/>
                  </a:lnTo>
                  <a:lnTo>
                    <a:pt x="2857501" y="461011"/>
                  </a:lnTo>
                  <a:lnTo>
                    <a:pt x="2868931" y="453390"/>
                  </a:lnTo>
                  <a:lnTo>
                    <a:pt x="2874011" y="449580"/>
                  </a:lnTo>
                  <a:lnTo>
                    <a:pt x="2882901" y="448311"/>
                  </a:lnTo>
                  <a:lnTo>
                    <a:pt x="2901951" y="447040"/>
                  </a:lnTo>
                  <a:lnTo>
                    <a:pt x="2905761" y="447040"/>
                  </a:lnTo>
                  <a:lnTo>
                    <a:pt x="2912111" y="449580"/>
                  </a:lnTo>
                  <a:lnTo>
                    <a:pt x="2921001" y="455930"/>
                  </a:lnTo>
                  <a:lnTo>
                    <a:pt x="2923540" y="457201"/>
                  </a:lnTo>
                  <a:lnTo>
                    <a:pt x="2936240" y="459740"/>
                  </a:lnTo>
                  <a:lnTo>
                    <a:pt x="2942590" y="463551"/>
                  </a:lnTo>
                  <a:lnTo>
                    <a:pt x="2965451" y="482601"/>
                  </a:lnTo>
                  <a:lnTo>
                    <a:pt x="2988311" y="511811"/>
                  </a:lnTo>
                  <a:lnTo>
                    <a:pt x="2989581" y="515621"/>
                  </a:lnTo>
                  <a:lnTo>
                    <a:pt x="2992120" y="523240"/>
                  </a:lnTo>
                  <a:lnTo>
                    <a:pt x="2993390" y="525780"/>
                  </a:lnTo>
                  <a:lnTo>
                    <a:pt x="3002281" y="534671"/>
                  </a:lnTo>
                  <a:lnTo>
                    <a:pt x="3004820" y="537211"/>
                  </a:lnTo>
                  <a:lnTo>
                    <a:pt x="3006090" y="539751"/>
                  </a:lnTo>
                  <a:lnTo>
                    <a:pt x="3020061" y="561340"/>
                  </a:lnTo>
                  <a:lnTo>
                    <a:pt x="3021331" y="567690"/>
                  </a:lnTo>
                  <a:lnTo>
                    <a:pt x="3026411" y="574040"/>
                  </a:lnTo>
                  <a:lnTo>
                    <a:pt x="3032761" y="581661"/>
                  </a:lnTo>
                  <a:lnTo>
                    <a:pt x="3037840" y="591821"/>
                  </a:lnTo>
                  <a:lnTo>
                    <a:pt x="3045461" y="599440"/>
                  </a:lnTo>
                  <a:lnTo>
                    <a:pt x="3046731" y="604521"/>
                  </a:lnTo>
                  <a:lnTo>
                    <a:pt x="3050540" y="617221"/>
                  </a:lnTo>
                  <a:lnTo>
                    <a:pt x="3051811" y="622301"/>
                  </a:lnTo>
                  <a:lnTo>
                    <a:pt x="3055620" y="626110"/>
                  </a:lnTo>
                  <a:lnTo>
                    <a:pt x="3059431" y="629921"/>
                  </a:lnTo>
                  <a:lnTo>
                    <a:pt x="3061970" y="635001"/>
                  </a:lnTo>
                  <a:lnTo>
                    <a:pt x="3067051" y="651510"/>
                  </a:lnTo>
                  <a:lnTo>
                    <a:pt x="3074670" y="661671"/>
                  </a:lnTo>
                  <a:lnTo>
                    <a:pt x="3078481" y="675640"/>
                  </a:lnTo>
                  <a:lnTo>
                    <a:pt x="3081020" y="690881"/>
                  </a:lnTo>
                  <a:lnTo>
                    <a:pt x="3084831" y="698501"/>
                  </a:lnTo>
                  <a:lnTo>
                    <a:pt x="3093720" y="712471"/>
                  </a:lnTo>
                  <a:lnTo>
                    <a:pt x="3100070" y="734060"/>
                  </a:lnTo>
                  <a:lnTo>
                    <a:pt x="3108961" y="749301"/>
                  </a:lnTo>
                  <a:lnTo>
                    <a:pt x="3110231" y="754381"/>
                  </a:lnTo>
                  <a:lnTo>
                    <a:pt x="3110231" y="762001"/>
                  </a:lnTo>
                  <a:lnTo>
                    <a:pt x="3112770" y="767081"/>
                  </a:lnTo>
                  <a:lnTo>
                    <a:pt x="3119120" y="775971"/>
                  </a:lnTo>
                  <a:lnTo>
                    <a:pt x="3121661" y="781051"/>
                  </a:lnTo>
                  <a:lnTo>
                    <a:pt x="3136901" y="839471"/>
                  </a:lnTo>
                  <a:lnTo>
                    <a:pt x="3145790" y="858521"/>
                  </a:lnTo>
                  <a:lnTo>
                    <a:pt x="3149601" y="877571"/>
                  </a:lnTo>
                  <a:lnTo>
                    <a:pt x="3161031" y="900431"/>
                  </a:lnTo>
                  <a:lnTo>
                    <a:pt x="3162301" y="919481"/>
                  </a:lnTo>
                  <a:lnTo>
                    <a:pt x="3162301" y="924560"/>
                  </a:lnTo>
                  <a:lnTo>
                    <a:pt x="3166111" y="933451"/>
                  </a:lnTo>
                  <a:lnTo>
                    <a:pt x="3175001" y="957581"/>
                  </a:lnTo>
                  <a:lnTo>
                    <a:pt x="3180081" y="981710"/>
                  </a:lnTo>
                  <a:lnTo>
                    <a:pt x="3183890" y="991871"/>
                  </a:lnTo>
                  <a:lnTo>
                    <a:pt x="3185161" y="1005840"/>
                  </a:lnTo>
                  <a:lnTo>
                    <a:pt x="3191511" y="1024890"/>
                  </a:lnTo>
                  <a:lnTo>
                    <a:pt x="3194051" y="1041401"/>
                  </a:lnTo>
                  <a:lnTo>
                    <a:pt x="3206751" y="1079501"/>
                  </a:lnTo>
                  <a:lnTo>
                    <a:pt x="3208020" y="1098551"/>
                  </a:lnTo>
                  <a:lnTo>
                    <a:pt x="3220720" y="1134110"/>
                  </a:lnTo>
                  <a:lnTo>
                    <a:pt x="3221990" y="1145540"/>
                  </a:lnTo>
                  <a:lnTo>
                    <a:pt x="3234690" y="1181101"/>
                  </a:lnTo>
                  <a:lnTo>
                    <a:pt x="3237231" y="1189990"/>
                  </a:lnTo>
                  <a:lnTo>
                    <a:pt x="3249931" y="1223010"/>
                  </a:lnTo>
                  <a:lnTo>
                    <a:pt x="3252470" y="1233171"/>
                  </a:lnTo>
                  <a:lnTo>
                    <a:pt x="3257551" y="1247140"/>
                  </a:lnTo>
                  <a:lnTo>
                    <a:pt x="3263901" y="1273810"/>
                  </a:lnTo>
                  <a:lnTo>
                    <a:pt x="3272790" y="1300481"/>
                  </a:lnTo>
                  <a:lnTo>
                    <a:pt x="3275331" y="1324610"/>
                  </a:lnTo>
                  <a:lnTo>
                    <a:pt x="3295651" y="1379221"/>
                  </a:lnTo>
                  <a:lnTo>
                    <a:pt x="3296920" y="1389381"/>
                  </a:lnTo>
                  <a:lnTo>
                    <a:pt x="3314701" y="1441450"/>
                  </a:lnTo>
                  <a:lnTo>
                    <a:pt x="3323590" y="1469391"/>
                  </a:lnTo>
                  <a:lnTo>
                    <a:pt x="3328670" y="1477010"/>
                  </a:lnTo>
                  <a:lnTo>
                    <a:pt x="3331211" y="1488441"/>
                  </a:lnTo>
                  <a:lnTo>
                    <a:pt x="3333751" y="1499871"/>
                  </a:lnTo>
                  <a:lnTo>
                    <a:pt x="3346451" y="1534160"/>
                  </a:lnTo>
                  <a:lnTo>
                    <a:pt x="3346451" y="1539241"/>
                  </a:lnTo>
                  <a:lnTo>
                    <a:pt x="3350261" y="1546860"/>
                  </a:lnTo>
                  <a:lnTo>
                    <a:pt x="3352801" y="1549400"/>
                  </a:lnTo>
                  <a:lnTo>
                    <a:pt x="3354070" y="1557021"/>
                  </a:lnTo>
                  <a:lnTo>
                    <a:pt x="3354070" y="1560831"/>
                  </a:lnTo>
                  <a:lnTo>
                    <a:pt x="3357881" y="1568450"/>
                  </a:lnTo>
                  <a:lnTo>
                    <a:pt x="3359151" y="1570991"/>
                  </a:lnTo>
                  <a:lnTo>
                    <a:pt x="3361690" y="1578610"/>
                  </a:lnTo>
                  <a:lnTo>
                    <a:pt x="3362961" y="1586231"/>
                  </a:lnTo>
                  <a:lnTo>
                    <a:pt x="3375661" y="1619250"/>
                  </a:lnTo>
                  <a:lnTo>
                    <a:pt x="3379470" y="1638300"/>
                  </a:lnTo>
                  <a:lnTo>
                    <a:pt x="3390901" y="1668781"/>
                  </a:lnTo>
                  <a:lnTo>
                    <a:pt x="3393440" y="1691641"/>
                  </a:lnTo>
                  <a:lnTo>
                    <a:pt x="3398520" y="1710691"/>
                  </a:lnTo>
                  <a:lnTo>
                    <a:pt x="3399790" y="1720850"/>
                  </a:lnTo>
                  <a:lnTo>
                    <a:pt x="3406140" y="1739900"/>
                  </a:lnTo>
                  <a:lnTo>
                    <a:pt x="3408681" y="1756410"/>
                  </a:lnTo>
                  <a:lnTo>
                    <a:pt x="3413761" y="1766571"/>
                  </a:lnTo>
                  <a:lnTo>
                    <a:pt x="3415031" y="1772921"/>
                  </a:lnTo>
                  <a:lnTo>
                    <a:pt x="3427731" y="1800860"/>
                  </a:lnTo>
                  <a:lnTo>
                    <a:pt x="3429001" y="1804671"/>
                  </a:lnTo>
                  <a:lnTo>
                    <a:pt x="3431540" y="1809750"/>
                  </a:lnTo>
                  <a:lnTo>
                    <a:pt x="3442970" y="1826260"/>
                  </a:lnTo>
                  <a:lnTo>
                    <a:pt x="3444240" y="1827531"/>
                  </a:lnTo>
                  <a:lnTo>
                    <a:pt x="3446781" y="1828800"/>
                  </a:lnTo>
                  <a:lnTo>
                    <a:pt x="3449320" y="1831341"/>
                  </a:lnTo>
                  <a:lnTo>
                    <a:pt x="3455670" y="1851660"/>
                  </a:lnTo>
                  <a:lnTo>
                    <a:pt x="3458211" y="1854200"/>
                  </a:lnTo>
                  <a:lnTo>
                    <a:pt x="3460751" y="1855471"/>
                  </a:lnTo>
                  <a:lnTo>
                    <a:pt x="3462020" y="1856741"/>
                  </a:lnTo>
                  <a:lnTo>
                    <a:pt x="3467101" y="1863091"/>
                  </a:lnTo>
                  <a:lnTo>
                    <a:pt x="3470911" y="1869441"/>
                  </a:lnTo>
                  <a:lnTo>
                    <a:pt x="3473451" y="1875791"/>
                  </a:lnTo>
                  <a:lnTo>
                    <a:pt x="3478531" y="1882141"/>
                  </a:lnTo>
                  <a:lnTo>
                    <a:pt x="3484881" y="1889760"/>
                  </a:lnTo>
                  <a:lnTo>
                    <a:pt x="3510281" y="1905000"/>
                  </a:lnTo>
                  <a:lnTo>
                    <a:pt x="3517901" y="1907541"/>
                  </a:lnTo>
                  <a:lnTo>
                    <a:pt x="3524251" y="1908810"/>
                  </a:lnTo>
                  <a:lnTo>
                    <a:pt x="3576320" y="1908810"/>
                  </a:lnTo>
                  <a:lnTo>
                    <a:pt x="3585211" y="1907541"/>
                  </a:lnTo>
                  <a:lnTo>
                    <a:pt x="3594101" y="1903731"/>
                  </a:lnTo>
                  <a:lnTo>
                    <a:pt x="3601720" y="1899921"/>
                  </a:lnTo>
                  <a:lnTo>
                    <a:pt x="3609340" y="1897381"/>
                  </a:lnTo>
                  <a:lnTo>
                    <a:pt x="3613151" y="1896110"/>
                  </a:lnTo>
                  <a:lnTo>
                    <a:pt x="3620770" y="1893571"/>
                  </a:lnTo>
                  <a:lnTo>
                    <a:pt x="3648711" y="1877060"/>
                  </a:lnTo>
                  <a:lnTo>
                    <a:pt x="3655061" y="1875791"/>
                  </a:lnTo>
                  <a:lnTo>
                    <a:pt x="3661411" y="1870710"/>
                  </a:lnTo>
                  <a:lnTo>
                    <a:pt x="3684270" y="1850391"/>
                  </a:lnTo>
                  <a:lnTo>
                    <a:pt x="3691890" y="1838960"/>
                  </a:lnTo>
                  <a:lnTo>
                    <a:pt x="3694431" y="1831341"/>
                  </a:lnTo>
                  <a:lnTo>
                    <a:pt x="3695701" y="1826260"/>
                  </a:lnTo>
                  <a:lnTo>
                    <a:pt x="3700781" y="1817371"/>
                  </a:lnTo>
                  <a:lnTo>
                    <a:pt x="3704590" y="1812291"/>
                  </a:lnTo>
                  <a:lnTo>
                    <a:pt x="3708401" y="1803400"/>
                  </a:lnTo>
                  <a:lnTo>
                    <a:pt x="3710940" y="1794510"/>
                  </a:lnTo>
                  <a:lnTo>
                    <a:pt x="3722370" y="1772921"/>
                  </a:lnTo>
                  <a:lnTo>
                    <a:pt x="3726181" y="1752600"/>
                  </a:lnTo>
                  <a:lnTo>
                    <a:pt x="3729990" y="1746250"/>
                  </a:lnTo>
                  <a:lnTo>
                    <a:pt x="3736340" y="1737360"/>
                  </a:lnTo>
                  <a:lnTo>
                    <a:pt x="3737611" y="1733550"/>
                  </a:lnTo>
                  <a:lnTo>
                    <a:pt x="3742690" y="1711960"/>
                  </a:lnTo>
                  <a:lnTo>
                    <a:pt x="3752851" y="1682750"/>
                  </a:lnTo>
                  <a:lnTo>
                    <a:pt x="3761740" y="1633221"/>
                  </a:lnTo>
                  <a:lnTo>
                    <a:pt x="3768090" y="1617981"/>
                  </a:lnTo>
                  <a:lnTo>
                    <a:pt x="3770631" y="1597660"/>
                  </a:lnTo>
                  <a:lnTo>
                    <a:pt x="3771901" y="1577341"/>
                  </a:lnTo>
                  <a:lnTo>
                    <a:pt x="3775711" y="1564641"/>
                  </a:lnTo>
                  <a:lnTo>
                    <a:pt x="3778251" y="1548131"/>
                  </a:lnTo>
                  <a:lnTo>
                    <a:pt x="3783331" y="1536700"/>
                  </a:lnTo>
                  <a:lnTo>
                    <a:pt x="3785870" y="1508760"/>
                  </a:lnTo>
                  <a:lnTo>
                    <a:pt x="3790951" y="1496060"/>
                  </a:lnTo>
                  <a:lnTo>
                    <a:pt x="3793490" y="1478281"/>
                  </a:lnTo>
                  <a:lnTo>
                    <a:pt x="3798570" y="1457960"/>
                  </a:lnTo>
                  <a:lnTo>
                    <a:pt x="3801111" y="1419860"/>
                  </a:lnTo>
                  <a:lnTo>
                    <a:pt x="3803651" y="1413510"/>
                  </a:lnTo>
                  <a:lnTo>
                    <a:pt x="3811270" y="1404621"/>
                  </a:lnTo>
                  <a:lnTo>
                    <a:pt x="3812540" y="1402081"/>
                  </a:lnTo>
                  <a:lnTo>
                    <a:pt x="3813811" y="1394460"/>
                  </a:lnTo>
                  <a:lnTo>
                    <a:pt x="3816351" y="1362710"/>
                  </a:lnTo>
                  <a:lnTo>
                    <a:pt x="3821431" y="1343660"/>
                  </a:lnTo>
                  <a:lnTo>
                    <a:pt x="3821431" y="1338581"/>
                  </a:lnTo>
                  <a:lnTo>
                    <a:pt x="3823970" y="1332231"/>
                  </a:lnTo>
                  <a:lnTo>
                    <a:pt x="3826511" y="1328421"/>
                  </a:lnTo>
                  <a:lnTo>
                    <a:pt x="3829051" y="1320801"/>
                  </a:lnTo>
                  <a:lnTo>
                    <a:pt x="3830320" y="1299210"/>
                  </a:lnTo>
                  <a:lnTo>
                    <a:pt x="3835401" y="1289051"/>
                  </a:lnTo>
                  <a:lnTo>
                    <a:pt x="3837940" y="1267460"/>
                  </a:lnTo>
                  <a:lnTo>
                    <a:pt x="3849370" y="1236981"/>
                  </a:lnTo>
                  <a:lnTo>
                    <a:pt x="3851911" y="1223010"/>
                  </a:lnTo>
                  <a:lnTo>
                    <a:pt x="3853181" y="1220471"/>
                  </a:lnTo>
                  <a:lnTo>
                    <a:pt x="3862070" y="1211581"/>
                  </a:lnTo>
                  <a:lnTo>
                    <a:pt x="3864611" y="1209040"/>
                  </a:lnTo>
                  <a:lnTo>
                    <a:pt x="3864611" y="1207771"/>
                  </a:lnTo>
                  <a:lnTo>
                    <a:pt x="3869690" y="1200151"/>
                  </a:lnTo>
                  <a:lnTo>
                    <a:pt x="3891281" y="1178560"/>
                  </a:lnTo>
                  <a:lnTo>
                    <a:pt x="3915411" y="1162051"/>
                  </a:lnTo>
                  <a:lnTo>
                    <a:pt x="3935731" y="1154431"/>
                  </a:lnTo>
                  <a:lnTo>
                    <a:pt x="3945890" y="1148081"/>
                  </a:lnTo>
                  <a:lnTo>
                    <a:pt x="3967481" y="1140460"/>
                  </a:lnTo>
                  <a:lnTo>
                    <a:pt x="3985261" y="1139190"/>
                  </a:lnTo>
                  <a:lnTo>
                    <a:pt x="4034790" y="1139190"/>
                  </a:lnTo>
                  <a:lnTo>
                    <a:pt x="4038601" y="1137921"/>
                  </a:lnTo>
                  <a:lnTo>
                    <a:pt x="4048761" y="1134110"/>
                  </a:lnTo>
                  <a:lnTo>
                    <a:pt x="4067811" y="1132840"/>
                  </a:lnTo>
                  <a:lnTo>
                    <a:pt x="4212590" y="1131571"/>
                  </a:lnTo>
                  <a:lnTo>
                    <a:pt x="4434841" y="1131571"/>
                  </a:lnTo>
                  <a:lnTo>
                    <a:pt x="4445001" y="1134110"/>
                  </a:lnTo>
                  <a:lnTo>
                    <a:pt x="4450080" y="1135381"/>
                  </a:lnTo>
                  <a:lnTo>
                    <a:pt x="4453891" y="1135381"/>
                  </a:lnTo>
                  <a:lnTo>
                    <a:pt x="4494530" y="1131571"/>
                  </a:lnTo>
                  <a:lnTo>
                    <a:pt x="4498341" y="1132840"/>
                  </a:lnTo>
                  <a:lnTo>
                    <a:pt x="4504691" y="1135381"/>
                  </a:lnTo>
                  <a:lnTo>
                    <a:pt x="4507230" y="1135381"/>
                  </a:lnTo>
                  <a:lnTo>
                    <a:pt x="4511041" y="1135381"/>
                  </a:lnTo>
                  <a:lnTo>
                    <a:pt x="4513580" y="1134110"/>
                  </a:lnTo>
                  <a:lnTo>
                    <a:pt x="4521201" y="1132840"/>
                  </a:lnTo>
                  <a:lnTo>
                    <a:pt x="4631691" y="1130301"/>
                  </a:lnTo>
                  <a:lnTo>
                    <a:pt x="4641851" y="1126490"/>
                  </a:lnTo>
                  <a:lnTo>
                    <a:pt x="4660901" y="1125221"/>
                  </a:lnTo>
                  <a:lnTo>
                    <a:pt x="4679951" y="1123951"/>
                  </a:lnTo>
                  <a:lnTo>
                    <a:pt x="4688841" y="1126490"/>
                  </a:lnTo>
                  <a:lnTo>
                    <a:pt x="4693920" y="1127760"/>
                  </a:lnTo>
                  <a:lnTo>
                    <a:pt x="4697730" y="1129031"/>
                  </a:lnTo>
                  <a:lnTo>
                    <a:pt x="4701541" y="1127760"/>
                  </a:lnTo>
                  <a:lnTo>
                    <a:pt x="4705351" y="1126490"/>
                  </a:lnTo>
                  <a:lnTo>
                    <a:pt x="4707891" y="1126490"/>
                  </a:lnTo>
                  <a:lnTo>
                    <a:pt x="4748530" y="1131571"/>
                  </a:lnTo>
                </a:path>
              </a:pathLst>
            </a:custGeom>
            <a:noFill/>
            <a:ln w="21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Straight Connector 7"/>
            <p:cNvSpPr/>
            <p:nvPr/>
          </p:nvSpPr>
          <p:spPr>
            <a:xfrm flipV="1">
              <a:off x="3517560" y="1372320"/>
              <a:ext cx="0" cy="28260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Straight Connector 8"/>
            <p:cNvSpPr/>
            <p:nvPr/>
          </p:nvSpPr>
          <p:spPr>
            <a:xfrm>
              <a:off x="3784320" y="234360"/>
              <a:ext cx="0" cy="107460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Straight Connector 9"/>
            <p:cNvSpPr/>
            <p:nvPr/>
          </p:nvSpPr>
          <p:spPr>
            <a:xfrm flipV="1">
              <a:off x="4843440" y="1372680"/>
              <a:ext cx="0" cy="2188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traight Connector 10"/>
            <p:cNvSpPr/>
            <p:nvPr/>
          </p:nvSpPr>
          <p:spPr>
            <a:xfrm>
              <a:off x="5132520" y="680040"/>
              <a:ext cx="0" cy="6220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Straight Connector 11"/>
            <p:cNvSpPr/>
            <p:nvPr/>
          </p:nvSpPr>
          <p:spPr>
            <a:xfrm flipV="1">
              <a:off x="5776920" y="1379880"/>
              <a:ext cx="0" cy="74232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TextBox 12"/>
            <p:cNvSpPr/>
            <p:nvPr/>
          </p:nvSpPr>
          <p:spPr>
            <a:xfrm>
              <a:off x="3403440" y="17269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A</a:t>
              </a:r>
              <a:endParaRPr b="0" lang="en-US" sz="1000" spc="-1" strike="noStrike">
                <a:solidFill>
                  <a:srgbClr val="000000"/>
                </a:solidFill>
                <a:latin typeface="Calibri"/>
              </a:endParaRPr>
            </a:p>
          </p:txBody>
        </p:sp>
        <p:sp>
          <p:nvSpPr>
            <p:cNvPr id="129" name="TextBox 13"/>
            <p:cNvSpPr/>
            <p:nvPr/>
          </p:nvSpPr>
          <p:spPr>
            <a:xfrm>
              <a:off x="3593880" y="12600"/>
              <a:ext cx="101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B (Gut Drop)</a:t>
              </a:r>
              <a:endParaRPr b="0" lang="en-US" sz="1000" spc="-1" strike="noStrike">
                <a:solidFill>
                  <a:srgbClr val="000000"/>
                </a:solidFill>
                <a:latin typeface="Calibri"/>
              </a:endParaRPr>
            </a:p>
          </p:txBody>
        </p:sp>
        <p:sp>
          <p:nvSpPr>
            <p:cNvPr id="130" name="TextBox 14"/>
            <p:cNvSpPr/>
            <p:nvPr/>
          </p:nvSpPr>
          <p:spPr>
            <a:xfrm>
              <a:off x="3632040" y="160020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6 m</a:t>
              </a:r>
              <a:endParaRPr b="0" lang="en-US" sz="1000" spc="-1" strike="noStrike">
                <a:solidFill>
                  <a:srgbClr val="000000"/>
                </a:solidFill>
                <a:latin typeface="Calibri"/>
              </a:endParaRPr>
            </a:p>
          </p:txBody>
        </p:sp>
        <p:sp>
          <p:nvSpPr>
            <p:cNvPr id="131" name="TextBox 15"/>
            <p:cNvSpPr/>
            <p:nvPr/>
          </p:nvSpPr>
          <p:spPr>
            <a:xfrm>
              <a:off x="3924360" y="711000"/>
              <a:ext cx="50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2 m</a:t>
              </a:r>
              <a:endParaRPr b="0" lang="en-US" sz="1000" spc="-1" strike="noStrike">
                <a:solidFill>
                  <a:srgbClr val="000000"/>
                </a:solidFill>
                <a:latin typeface="Calibri"/>
              </a:endParaRPr>
            </a:p>
          </p:txBody>
        </p:sp>
        <p:sp>
          <p:nvSpPr>
            <p:cNvPr id="132" name="TextBox 16"/>
            <p:cNvSpPr/>
            <p:nvPr/>
          </p:nvSpPr>
          <p:spPr>
            <a:xfrm>
              <a:off x="4457880" y="143496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 m</a:t>
              </a:r>
              <a:endParaRPr b="0" lang="en-US" sz="1000" spc="-1" strike="noStrike">
                <a:solidFill>
                  <a:srgbClr val="000000"/>
                </a:solidFill>
                <a:latin typeface="Calibri"/>
              </a:endParaRPr>
            </a:p>
          </p:txBody>
        </p:sp>
        <p:sp>
          <p:nvSpPr>
            <p:cNvPr id="133" name="TextBox 17"/>
            <p:cNvSpPr/>
            <p:nvPr/>
          </p:nvSpPr>
          <p:spPr>
            <a:xfrm>
              <a:off x="5346720" y="927000"/>
              <a:ext cx="50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18 m</a:t>
              </a:r>
              <a:endParaRPr b="0" lang="en-US" sz="1000" spc="-1" strike="noStrike">
                <a:solidFill>
                  <a:srgbClr val="000000"/>
                </a:solidFill>
                <a:latin typeface="Calibri"/>
              </a:endParaRPr>
            </a:p>
          </p:txBody>
        </p:sp>
        <p:sp>
          <p:nvSpPr>
            <p:cNvPr id="134" name="TextBox 18"/>
            <p:cNvSpPr/>
            <p:nvPr/>
          </p:nvSpPr>
          <p:spPr>
            <a:xfrm>
              <a:off x="6058080" y="17524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21 m</a:t>
              </a:r>
              <a:endParaRPr b="0" lang="en-US" sz="1000" spc="-1" strike="noStrike">
                <a:solidFill>
                  <a:srgbClr val="000000"/>
                </a:solidFill>
                <a:latin typeface="Calibri"/>
              </a:endParaRPr>
            </a:p>
          </p:txBody>
        </p:sp>
        <p:sp>
          <p:nvSpPr>
            <p:cNvPr id="135" name="TextBox 19"/>
            <p:cNvSpPr/>
            <p:nvPr/>
          </p:nvSpPr>
          <p:spPr>
            <a:xfrm>
              <a:off x="4762440" y="17017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C</a:t>
              </a:r>
              <a:endParaRPr b="0" lang="en-US" sz="1000" spc="-1" strike="noStrike">
                <a:solidFill>
                  <a:srgbClr val="000000"/>
                </a:solidFill>
                <a:latin typeface="Calibri"/>
              </a:endParaRPr>
            </a:p>
          </p:txBody>
        </p:sp>
        <p:sp>
          <p:nvSpPr>
            <p:cNvPr id="136" name="TextBox 20"/>
            <p:cNvSpPr/>
            <p:nvPr/>
          </p:nvSpPr>
          <p:spPr>
            <a:xfrm>
              <a:off x="4978440" y="507600"/>
              <a:ext cx="116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D (Queasy Hill)</a:t>
              </a:r>
              <a:endParaRPr b="0" lang="en-US" sz="1000" spc="-1" strike="noStrike">
                <a:solidFill>
                  <a:srgbClr val="000000"/>
                </a:solidFill>
                <a:latin typeface="Calibri"/>
              </a:endParaRPr>
            </a:p>
          </p:txBody>
        </p:sp>
        <p:sp>
          <p:nvSpPr>
            <p:cNvPr id="137" name="TextBox 21"/>
            <p:cNvSpPr/>
            <p:nvPr/>
          </p:nvSpPr>
          <p:spPr>
            <a:xfrm>
              <a:off x="5664240" y="21841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1"/>
          <p:cNvSpPr/>
          <p:nvPr/>
        </p:nvSpPr>
        <p:spPr>
          <a:xfrm>
            <a:off x="139680" y="139680"/>
            <a:ext cx="5943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1: Calculate the Range</a:t>
            </a:r>
            <a:endParaRPr b="0" lang="en-US" sz="3500" spc="-1" strike="noStrike">
              <a:solidFill>
                <a:srgbClr val="000000"/>
              </a:solidFill>
              <a:latin typeface="Calibri"/>
            </a:endParaRPr>
          </a:p>
        </p:txBody>
      </p:sp>
      <p:sp>
        <p:nvSpPr>
          <p:cNvPr id="139" name="TextBox 2"/>
          <p:cNvSpPr/>
          <p:nvPr/>
        </p:nvSpPr>
        <p:spPr>
          <a:xfrm>
            <a:off x="139680" y="888840"/>
            <a:ext cx="947412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hospital recorded the following number of births in one week.</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highest number of birth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at is the lowest number of birth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What is the range of the data?</a:t>
            </a:r>
            <a:endParaRPr b="0" lang="en-US" sz="2300" spc="-1" strike="noStrike">
              <a:solidFill>
                <a:srgbClr val="000000"/>
              </a:solidFill>
              <a:latin typeface="Calibri"/>
            </a:endParaRPr>
          </a:p>
        </p:txBody>
      </p:sp>
      <p:graphicFrame>
        <p:nvGraphicFramePr>
          <p:cNvPr id="140" name=""/>
          <p:cNvGraphicFramePr/>
          <p:nvPr/>
        </p:nvGraphicFramePr>
        <p:xfrm>
          <a:off x="838080" y="1397160"/>
          <a:ext cx="7112160" cy="1401480"/>
        </p:xfrm>
        <a:graphic>
          <a:graphicData uri="http://schemas.openxmlformats.org/drawingml/2006/table">
            <a:tbl>
              <a:tblPr/>
              <a:tblGrid>
                <a:gridCol w="2019600"/>
                <a:gridCol w="736560"/>
                <a:gridCol w="672840"/>
                <a:gridCol w="812880"/>
                <a:gridCol w="812880"/>
                <a:gridCol w="723960"/>
                <a:gridCol w="647640"/>
                <a:gridCol w="6858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ue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e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hur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ri</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at</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u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umber of Birth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6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Box 1"/>
          <p:cNvSpPr/>
          <p:nvPr/>
        </p:nvSpPr>
        <p:spPr>
          <a:xfrm>
            <a:off x="228600" y="25560"/>
            <a:ext cx="850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Identify Outliers in a Data Set</a:t>
            </a:r>
            <a:endParaRPr b="0" lang="en-US" sz="3600" spc="-1" strike="noStrike">
              <a:solidFill>
                <a:srgbClr val="000000"/>
              </a:solidFill>
              <a:latin typeface="Calibri"/>
            </a:endParaRPr>
          </a:p>
        </p:txBody>
      </p:sp>
      <p:sp>
        <p:nvSpPr>
          <p:cNvPr id="142" name="TextBox 2"/>
          <p:cNvSpPr/>
          <p:nvPr/>
        </p:nvSpPr>
        <p:spPr>
          <a:xfrm>
            <a:off x="216000" y="698400"/>
            <a:ext cx="8483400" cy="88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In the 1985-86 NHL hockey season, Wayne Gretzky set a record for the most points (goals + assists) recorded during a single regular season.  The following table shows the top five point leaders for the 1985-1986 season and the 2005-2006 seas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Determine the range for each season.  Compare the two rang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ich data value appears to be an outlier in one of the two season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Remove the outlier and determine the new range for that season.  Compare the new range with the range from the other season.</a:t>
            </a:r>
            <a:endParaRPr b="0" lang="en-US" sz="2300" spc="-1" strike="noStrike">
              <a:solidFill>
                <a:srgbClr val="000000"/>
              </a:solidFill>
              <a:latin typeface="Calibri"/>
            </a:endParaRPr>
          </a:p>
        </p:txBody>
      </p:sp>
      <p:graphicFrame>
        <p:nvGraphicFramePr>
          <p:cNvPr id="143" name=""/>
          <p:cNvGraphicFramePr/>
          <p:nvPr/>
        </p:nvGraphicFramePr>
        <p:xfrm>
          <a:off x="1092240" y="3073320"/>
          <a:ext cx="7378560" cy="4110120"/>
        </p:xfrm>
        <a:graphic>
          <a:graphicData uri="http://schemas.openxmlformats.org/drawingml/2006/table">
            <a:tbl>
              <a:tblPr/>
              <a:tblGrid>
                <a:gridCol w="1778040"/>
                <a:gridCol w="1778040"/>
                <a:gridCol w="2336760"/>
                <a:gridCol w="1485720"/>
              </a:tblGrid>
              <a:tr h="50616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HL Point Leader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985-86 Sea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oint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005-06 Sea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oint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ayne Gretzk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1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oe Thornt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ario Lemieux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4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aromir Jagr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aul Coffe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3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lex Ovechkin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ari Kurri</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31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ny Heatle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ike Boss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niel Alfreds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1"/>
          <p:cNvSpPr/>
          <p:nvPr/>
        </p:nvSpPr>
        <p:spPr>
          <a:xfrm>
            <a:off x="343080" y="406440"/>
            <a:ext cx="8737560" cy="29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US" sz="2300" spc="-1" strike="noStrike">
                <a:solidFill>
                  <a:srgbClr val="800080"/>
                </a:solidFill>
                <a:latin typeface="Comic Sans MS - 24"/>
              </a:rPr>
              <a:t>The </a:t>
            </a:r>
            <a:r>
              <a:rPr b="0" lang="en-US" sz="2300" spc="-1" strike="noStrike">
                <a:solidFill>
                  <a:srgbClr val="ff0000"/>
                </a:solidFill>
                <a:latin typeface="Comic Sans MS - 24"/>
              </a:rPr>
              <a:t>range</a:t>
            </a:r>
            <a:r>
              <a:rPr b="0" lang="en-CA" sz="2300" spc="-1" strike="noStrike">
                <a:solidFill>
                  <a:srgbClr val="800080"/>
                </a:solidFill>
                <a:latin typeface="Comic Sans MS - 24"/>
              </a:rPr>
              <a:t> provides information about the spread of the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US" sz="2300" spc="-1" strike="noStrike">
                <a:solidFill>
                  <a:srgbClr val="ff0000"/>
                </a:solidFill>
                <a:latin typeface="Comic Sans MS - 24"/>
              </a:rPr>
              <a:t>Range</a:t>
            </a:r>
            <a:r>
              <a:rPr b="0" lang="en-US" sz="2300" spc="-1" strike="noStrike">
                <a:solidFill>
                  <a:srgbClr val="800080"/>
                </a:solidFill>
                <a:latin typeface="Comic Sans MS - 24"/>
              </a:rPr>
              <a:t> = highest value - lowest valu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US" sz="2300" spc="-1" strike="noStrike">
                <a:solidFill>
                  <a:srgbClr val="ff0000"/>
                </a:solidFill>
                <a:latin typeface="Comic Sans MS - 24"/>
              </a:rPr>
              <a:t>Outliers</a:t>
            </a:r>
            <a:r>
              <a:rPr b="0" lang="en-CA" sz="2300" spc="-1" strike="noStrike">
                <a:solidFill>
                  <a:srgbClr val="800080"/>
                </a:solidFill>
                <a:latin typeface="Comic Sans MS - 24"/>
              </a:rPr>
              <a:t> are values that are very different from the rest of the numbers in a set of data.  A data set can have no outliers, or one or more outliers.</a:t>
            </a:r>
            <a:endParaRPr b="0" lang="en-US" sz="2300" spc="-1" strike="noStrike">
              <a:solidFill>
                <a:srgbClr val="000000"/>
              </a:solidFill>
              <a:latin typeface="Calibri"/>
            </a:endParaRPr>
          </a:p>
        </p:txBody>
      </p:sp>
      <p:sp>
        <p:nvSpPr>
          <p:cNvPr id="145" name="TextBox 2"/>
          <p:cNvSpPr/>
          <p:nvPr/>
        </p:nvSpPr>
        <p:spPr>
          <a:xfrm>
            <a:off x="355680" y="3822840"/>
            <a:ext cx="8432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Assign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p</a:t>
            </a:r>
            <a:r>
              <a:rPr b="0" lang="en-CA" sz="3600" spc="-1" strike="noStrike">
                <a:solidFill>
                  <a:srgbClr val="800080"/>
                </a:solidFill>
                <a:latin typeface="Comic Sans MS - 36"/>
              </a:rPr>
              <a:t>. 437, #1-3, 5, 6, 8, 9, 12, MathLink</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Still Good? #10, 11, 16</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Pro Star? #13-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203040" y="50760"/>
            <a:ext cx="47754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12.1 Median &amp; Mode</a:t>
            </a:r>
            <a:endParaRPr b="0" lang="en-US" sz="3500" spc="-1" strike="noStrike">
              <a:solidFill>
                <a:srgbClr val="000000"/>
              </a:solidFill>
              <a:latin typeface="Calibri"/>
            </a:endParaRPr>
          </a:p>
        </p:txBody>
      </p:sp>
      <p:sp>
        <p:nvSpPr>
          <p:cNvPr id="45" name="TextBox 2"/>
          <p:cNvSpPr/>
          <p:nvPr/>
        </p:nvSpPr>
        <p:spPr>
          <a:xfrm>
            <a:off x="203040" y="1028880"/>
            <a:ext cx="10083960" cy="569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Measure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a value that represents the centre of a set of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can be the </a:t>
            </a:r>
            <a:r>
              <a:rPr b="0" i="1" lang="en-US" sz="2300" spc="-1" strike="noStrike">
                <a:solidFill>
                  <a:srgbClr val="800080"/>
                </a:solidFill>
                <a:latin typeface="Comic Sans MS - 24"/>
              </a:rPr>
              <a:t>mean, median, or mod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800080"/>
                </a:solidFill>
                <a:latin typeface="Comic Sans MS - 24"/>
              </a:rPr>
              <a:t>Me</a:t>
            </a:r>
            <a:r>
              <a:rPr b="0" lang="en-US" sz="2300" spc="-1" strike="noStrike" u="sng">
                <a:solidFill>
                  <a:srgbClr val="800080"/>
                </a:solidFill>
                <a:uFillTx/>
                <a:latin typeface="Comic Sans MS - 24"/>
              </a:rPr>
              <a:t>dia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The middle number in the set of data after the data have been </a:t>
            </a:r>
            <a:r>
              <a:rPr b="0" lang="en-CA" sz="2300" spc="-1" strike="noStrike" u="sng">
                <a:solidFill>
                  <a:srgbClr val="800080"/>
                </a:solidFill>
                <a:uFillTx/>
                <a:latin typeface="Comic Sans MS - 24"/>
              </a:rPr>
              <a:t>arranged in ord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median of 2, 5, 6, 8, and 9 is 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edian of 1, 3, 6, 8, 9, and 10 is ___.</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o</a:t>
            </a:r>
            <a:r>
              <a:rPr b="0" lang="en-US" sz="2300" spc="-1" strike="noStrike" u="sng">
                <a:solidFill>
                  <a:srgbClr val="800080"/>
                </a:solidFill>
                <a:uFillTx/>
                <a:latin typeface="Comic Sans MS - 24"/>
              </a:rPr>
              <a:t>d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the most frequently occurring number in a set of data (the number that shows up the most ofte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ode of 3, 5, 7, 7, and 9 is 7.</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odes of 2, 2, 4, 6, 6, 8, and 11 are ___ and ___.</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the data 1, 3, 4, and 5 has no mo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1"/>
          <p:cNvSpPr/>
          <p:nvPr/>
        </p:nvSpPr>
        <p:spPr>
          <a:xfrm>
            <a:off x="254160" y="139680"/>
            <a:ext cx="668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12.4  The Effect of Outliers</a:t>
            </a:r>
            <a:endParaRPr b="0" lang="en-US" sz="3600" spc="-1" strike="noStrike">
              <a:solidFill>
                <a:srgbClr val="000000"/>
              </a:solidFill>
              <a:latin typeface="Calibri"/>
            </a:endParaRPr>
          </a:p>
        </p:txBody>
      </p:sp>
      <p:sp>
        <p:nvSpPr>
          <p:cNvPr id="147" name="TextBox 2"/>
          <p:cNvSpPr/>
          <p:nvPr/>
        </p:nvSpPr>
        <p:spPr>
          <a:xfrm>
            <a:off x="254160" y="1041480"/>
            <a:ext cx="878832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explain the effects of outliers on measures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justify whether outliers should be included when determining the measure of central tendenc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1"/>
          <p:cNvSpPr/>
          <p:nvPr/>
        </p:nvSpPr>
        <p:spPr>
          <a:xfrm>
            <a:off x="139680" y="0"/>
            <a:ext cx="523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Ex 1: Identify Outliers</a:t>
            </a:r>
            <a:endParaRPr b="0" lang="en-US" sz="3600" spc="-1" strike="noStrike">
              <a:solidFill>
                <a:srgbClr val="000000"/>
              </a:solidFill>
              <a:latin typeface="Calibri"/>
            </a:endParaRPr>
          </a:p>
        </p:txBody>
      </p:sp>
      <p:sp>
        <p:nvSpPr>
          <p:cNvPr id="149" name="TextBox 2"/>
          <p:cNvSpPr/>
          <p:nvPr/>
        </p:nvSpPr>
        <p:spPr>
          <a:xfrm>
            <a:off x="127080" y="685800"/>
            <a:ext cx="6146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Shannon practised shooting baskets </a:t>
            </a:r>
            <a:r>
              <a:rPr b="0" lang="en-CA" sz="2400" spc="-1" strike="noStrike">
                <a:solidFill>
                  <a:srgbClr val="800080"/>
                </a:solidFill>
                <a:latin typeface="Comic Sans MS - 24"/>
              </a:rPr>
              <a:t>every day last week to prepare for a basketball tournament.  She recorded the number of baskets she made each day out of 25 sho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range of basket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are the median and mean numbers of basket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c) Identify any possible ouitliers.  Should the outlier(s) be removed from the data set?  Explain why or why not.</a:t>
            </a:r>
            <a:endParaRPr b="0" lang="en-US" sz="2400" spc="-1" strike="noStrike">
              <a:solidFill>
                <a:srgbClr val="000000"/>
              </a:solidFill>
              <a:latin typeface="Calibri"/>
            </a:endParaRPr>
          </a:p>
        </p:txBody>
      </p:sp>
      <p:graphicFrame>
        <p:nvGraphicFramePr>
          <p:cNvPr id="150" name=""/>
          <p:cNvGraphicFramePr/>
          <p:nvPr/>
        </p:nvGraphicFramePr>
        <p:xfrm>
          <a:off x="6210360" y="1079640"/>
          <a:ext cx="3479760" cy="4305240"/>
        </p:xfrm>
        <a:graphic>
          <a:graphicData uri="http://schemas.openxmlformats.org/drawingml/2006/table">
            <a:tbl>
              <a:tblPr/>
              <a:tblGrid>
                <a:gridCol w="1765080"/>
                <a:gridCol w="171468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umber of Basket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u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u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edn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5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2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atur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8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 descr="usbthumbdrive2-640[1].jpg"/>
          <p:cNvPicPr/>
          <p:nvPr/>
        </p:nvPicPr>
        <p:blipFill>
          <a:blip r:embed="rId1">
            <a:alphaModFix amt="0"/>
          </a:blip>
          <a:stretch/>
        </p:blipFill>
        <p:spPr>
          <a:xfrm>
            <a:off x="6603840" y="25560"/>
            <a:ext cx="2918160" cy="1900080"/>
          </a:xfrm>
          <a:prstGeom prst="rect">
            <a:avLst/>
          </a:prstGeom>
          <a:ln w="0">
            <a:noFill/>
          </a:ln>
        </p:spPr>
      </p:pic>
      <p:sp>
        <p:nvSpPr>
          <p:cNvPr id="152" name="TextBox 2"/>
          <p:cNvSpPr/>
          <p:nvPr/>
        </p:nvSpPr>
        <p:spPr>
          <a:xfrm>
            <a:off x="50760" y="0"/>
            <a:ext cx="75186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2: Identify Outliers and Determine Their Effects</a:t>
            </a:r>
            <a:endParaRPr b="0" lang="en-US" sz="3500" spc="-1" strike="noStrike">
              <a:solidFill>
                <a:srgbClr val="000000"/>
              </a:solidFill>
              <a:latin typeface="Calibri"/>
            </a:endParaRPr>
          </a:p>
        </p:txBody>
      </p:sp>
      <p:sp>
        <p:nvSpPr>
          <p:cNvPr id="153" name="TextBox 3"/>
          <p:cNvSpPr/>
          <p:nvPr/>
        </p:nvSpPr>
        <p:spPr>
          <a:xfrm>
            <a:off x="76320" y="1803240"/>
            <a:ext cx="100076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In a science experiment, students were asked to measure the length of their right thumb from the first knuckle to the end of their thumb.  The table shows the lengths that were measured by ten different 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are the median and me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c) Identify any possible outlier(s).  Should the outlier(s) be removed from the data set?  Explain why or why no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d) How would removing the outlier affect the median and mean?</a:t>
            </a:r>
            <a:endParaRPr b="0" lang="en-US" sz="2400" spc="-1" strike="noStrike">
              <a:solidFill>
                <a:srgbClr val="000000"/>
              </a:solidFill>
              <a:latin typeface="Calibri"/>
            </a:endParaRPr>
          </a:p>
        </p:txBody>
      </p:sp>
      <p:graphicFrame>
        <p:nvGraphicFramePr>
          <p:cNvPr id="154" name=""/>
          <p:cNvGraphicFramePr/>
          <p:nvPr/>
        </p:nvGraphicFramePr>
        <p:xfrm>
          <a:off x="800280" y="3594240"/>
          <a:ext cx="7772400" cy="1336680"/>
        </p:xfrm>
        <a:graphic>
          <a:graphicData uri="http://schemas.openxmlformats.org/drawingml/2006/table">
            <a:tbl>
              <a:tblPr/>
              <a:tblGrid>
                <a:gridCol w="1422360"/>
                <a:gridCol w="635040"/>
                <a:gridCol w="634680"/>
                <a:gridCol w="635040"/>
                <a:gridCol w="635040"/>
                <a:gridCol w="635040"/>
                <a:gridCol w="635040"/>
                <a:gridCol w="635040"/>
                <a:gridCol w="635040"/>
                <a:gridCol w="635040"/>
                <a:gridCol w="635040"/>
              </a:tblGrid>
              <a:tr h="63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tudent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B</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C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G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H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I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Length (cm)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155" name="TextBox 5"/>
          <p:cNvSpPr/>
          <p:nvPr/>
        </p:nvSpPr>
        <p:spPr>
          <a:xfrm>
            <a:off x="291960" y="1153152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The mean is affected more by removing the outli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1"/>
          <p:cNvSpPr/>
          <p:nvPr/>
        </p:nvSpPr>
        <p:spPr>
          <a:xfrm>
            <a:off x="203040" y="101520"/>
            <a:ext cx="2718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p:txBody>
      </p:sp>
      <p:sp>
        <p:nvSpPr>
          <p:cNvPr id="157" name="TextBox 2"/>
          <p:cNvSpPr/>
          <p:nvPr/>
        </p:nvSpPr>
        <p:spPr>
          <a:xfrm>
            <a:off x="216000" y="977760"/>
            <a:ext cx="871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Symbol - 24"/>
              </a:rPr>
              <a:t>·</a:t>
            </a:r>
            <a:r>
              <a:rPr b="0" lang="en-CA" sz="2400" spc="-1" strike="noStrike">
                <a:solidFill>
                  <a:srgbClr val="800080"/>
                </a:solidFill>
                <a:latin typeface="Comic Sans MS - 24"/>
              </a:rPr>
              <a:t>Outliers can affect all measures of central tendenc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When a small set of data has an outlier, the </a:t>
            </a:r>
            <a:r>
              <a:rPr b="0" i="1" lang="en-CA" sz="2400" spc="-1" strike="noStrike">
                <a:solidFill>
                  <a:srgbClr val="800080"/>
                </a:solidFill>
                <a:latin typeface="Comic Sans MS - 24"/>
              </a:rPr>
              <a:t>mean</a:t>
            </a:r>
            <a:r>
              <a:rPr b="0" lang="en-CA" sz="2400" spc="-1" strike="noStrike">
                <a:solidFill>
                  <a:srgbClr val="800080"/>
                </a:solidFill>
                <a:latin typeface="Comic Sans MS - 24"/>
              </a:rPr>
              <a:t> is usually affected more by the outlier than the medi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Some outliers are just as important as the other data values, while others are better removed from the data set.</a:t>
            </a:r>
            <a:endParaRPr b="0" lang="en-US" sz="2400" spc="-1" strike="noStrike">
              <a:solidFill>
                <a:srgbClr val="000000"/>
              </a:solidFill>
              <a:latin typeface="Calibri"/>
            </a:endParaRPr>
          </a:p>
        </p:txBody>
      </p:sp>
      <p:sp>
        <p:nvSpPr>
          <p:cNvPr id="158" name="TextBox 3"/>
          <p:cNvSpPr/>
          <p:nvPr/>
        </p:nvSpPr>
        <p:spPr>
          <a:xfrm>
            <a:off x="228600" y="3505320"/>
            <a:ext cx="604512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ssignment:</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p</a:t>
            </a:r>
            <a:r>
              <a:rPr b="0" lang="en-CA" sz="3500" spc="-1" strike="noStrike">
                <a:solidFill>
                  <a:srgbClr val="800080"/>
                </a:solidFill>
                <a:latin typeface="Comic Sans MS - 36"/>
              </a:rPr>
              <a:t>. 444, #1-3, 5, Math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Still Good? #6, 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Pro Star? #8</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Box 1"/>
          <p:cNvSpPr/>
          <p:nvPr/>
        </p:nvSpPr>
        <p:spPr>
          <a:xfrm>
            <a:off x="254160" y="139680"/>
            <a:ext cx="1003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12.5  Choose the Best Measure of Central Tendency</a:t>
            </a:r>
            <a:endParaRPr b="0" lang="en-US" sz="3600" spc="-1" strike="noStrike">
              <a:solidFill>
                <a:srgbClr val="000000"/>
              </a:solidFill>
              <a:latin typeface="Calibri"/>
            </a:endParaRPr>
          </a:p>
        </p:txBody>
      </p:sp>
      <p:sp>
        <p:nvSpPr>
          <p:cNvPr id="160" name="TextBox 2"/>
          <p:cNvSpPr/>
          <p:nvPr/>
        </p:nvSpPr>
        <p:spPr>
          <a:xfrm>
            <a:off x="241200" y="1460520"/>
            <a:ext cx="881388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determine when to use mean, median, or mode to best describe a set of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solve problems using mean, median, and mo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Box 1"/>
          <p:cNvSpPr/>
          <p:nvPr/>
        </p:nvSpPr>
        <p:spPr>
          <a:xfrm>
            <a:off x="101520" y="50760"/>
            <a:ext cx="100584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1: Compare Measures of Central Tendency</a:t>
            </a:r>
            <a:endParaRPr b="0" lang="en-US" sz="3500" spc="-1" strike="noStrike">
              <a:solidFill>
                <a:srgbClr val="000000"/>
              </a:solidFill>
              <a:latin typeface="Calibri"/>
            </a:endParaRPr>
          </a:p>
        </p:txBody>
      </p:sp>
      <p:sp>
        <p:nvSpPr>
          <p:cNvPr id="162" name="TextBox 2"/>
          <p:cNvSpPr/>
          <p:nvPr/>
        </p:nvSpPr>
        <p:spPr>
          <a:xfrm>
            <a:off x="241200" y="1015920"/>
            <a:ext cx="909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mir and Melanie's weekly quiz scores were 4, 5, 8, 9, 9.  Which measure(s) of central tendency best describe the data?  Explain why.</a:t>
            </a:r>
            <a:endParaRPr b="0" lang="en-US" sz="2400" spc="-1" strike="noStrike">
              <a:solidFill>
                <a:srgbClr val="000000"/>
              </a:solidFill>
              <a:latin typeface="Calibri"/>
            </a:endParaRPr>
          </a:p>
        </p:txBody>
      </p:sp>
      <p:sp>
        <p:nvSpPr>
          <p:cNvPr id="163" name="TextBox 3"/>
          <p:cNvSpPr/>
          <p:nvPr/>
        </p:nvSpPr>
        <p:spPr>
          <a:xfrm>
            <a:off x="7188120" y="4025880"/>
            <a:ext cx="18036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dian: 8</a:t>
            </a:r>
            <a:endParaRPr b="0" lang="en-US" sz="2300" spc="-1" strike="noStrike">
              <a:solidFill>
                <a:srgbClr val="000000"/>
              </a:solidFill>
              <a:latin typeface="Calibri"/>
            </a:endParaRPr>
          </a:p>
        </p:txBody>
      </p:sp>
      <p:sp>
        <p:nvSpPr>
          <p:cNvPr id="164" name="TextBox 4"/>
          <p:cNvSpPr/>
          <p:nvPr/>
        </p:nvSpPr>
        <p:spPr>
          <a:xfrm>
            <a:off x="2374920" y="4127400"/>
            <a:ext cx="1549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an: 7</a:t>
            </a:r>
            <a:endParaRPr b="0" lang="en-US" sz="2300" spc="-1" strike="noStrike">
              <a:solidFill>
                <a:srgbClr val="000000"/>
              </a:solidFill>
              <a:latin typeface="Calibri"/>
            </a:endParaRPr>
          </a:p>
        </p:txBody>
      </p:sp>
      <p:sp>
        <p:nvSpPr>
          <p:cNvPr id="165" name="TextBox 5"/>
          <p:cNvSpPr/>
          <p:nvPr/>
        </p:nvSpPr>
        <p:spPr>
          <a:xfrm>
            <a:off x="4572000" y="3606840"/>
            <a:ext cx="15746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ode: 9</a:t>
            </a:r>
            <a:endParaRPr b="0" lang="en-US" sz="2300" spc="-1" strike="noStrike">
              <a:solidFill>
                <a:srgbClr val="000000"/>
              </a:solidFill>
              <a:latin typeface="Calibri"/>
            </a:endParaRPr>
          </a:p>
        </p:txBody>
      </p:sp>
      <p:sp>
        <p:nvSpPr>
          <p:cNvPr id="166" name="TextBox 6"/>
          <p:cNvSpPr/>
          <p:nvPr/>
        </p:nvSpPr>
        <p:spPr>
          <a:xfrm>
            <a:off x="2425680" y="6324480"/>
            <a:ext cx="477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Do "Show You Know" on p. 447</a:t>
            </a:r>
            <a:endParaRPr b="0" lang="en-US" sz="2400" spc="-1" strike="noStrike">
              <a:solidFill>
                <a:srgbClr val="000000"/>
              </a:solidFill>
              <a:latin typeface="Calibri"/>
            </a:endParaRPr>
          </a:p>
        </p:txBody>
      </p:sp>
      <p:sp>
        <p:nvSpPr>
          <p:cNvPr id="167" name="TextBox 7"/>
          <p:cNvSpPr/>
          <p:nvPr/>
        </p:nvSpPr>
        <p:spPr>
          <a:xfrm>
            <a:off x="825480" y="7848720"/>
            <a:ext cx="899172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The mean </a:t>
            </a:r>
            <a:r>
              <a:rPr b="0" i="1" lang="en-US" sz="2300" spc="-1" strike="noStrike" u="sng">
                <a:solidFill>
                  <a:srgbClr val="000000"/>
                </a:solidFill>
                <a:uFillTx/>
                <a:latin typeface="Arial - 24"/>
              </a:rPr>
              <a:t>or</a:t>
            </a:r>
            <a:r>
              <a:rPr b="0" lang="en-CA" sz="2300" spc="-1" strike="noStrike">
                <a:solidFill>
                  <a:srgbClr val="000000"/>
                </a:solidFill>
                <a:latin typeface="Arial - 24"/>
              </a:rPr>
              <a:t> median because they are very close to the middle of the data.  The mode represents the higher marks, and not the middle of the mark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800px-Rainbow-diagram-ROYGBIV.svg[1].png"/>
          <p:cNvPicPr/>
          <p:nvPr/>
        </p:nvPicPr>
        <p:blipFill>
          <a:blip r:embed="rId1">
            <a:alphaModFix amt="0"/>
          </a:blip>
          <a:stretch/>
        </p:blipFill>
        <p:spPr>
          <a:xfrm>
            <a:off x="3213000" y="1511280"/>
            <a:ext cx="6850080" cy="3429000"/>
          </a:xfrm>
          <a:prstGeom prst="rect">
            <a:avLst/>
          </a:prstGeom>
          <a:ln w="0">
            <a:noFill/>
          </a:ln>
        </p:spPr>
      </p:pic>
      <p:sp>
        <p:nvSpPr>
          <p:cNvPr id="169" name="TextBox 2"/>
          <p:cNvSpPr/>
          <p:nvPr/>
        </p:nvSpPr>
        <p:spPr>
          <a:xfrm>
            <a:off x="368280" y="101520"/>
            <a:ext cx="843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Choose Mode as the Best Measure of Central Tendency</a:t>
            </a:r>
            <a:endParaRPr b="0" lang="en-US" sz="3600" spc="-1" strike="noStrike">
              <a:solidFill>
                <a:srgbClr val="000000"/>
              </a:solidFill>
              <a:latin typeface="Calibri"/>
            </a:endParaRPr>
          </a:p>
        </p:txBody>
      </p:sp>
      <p:sp>
        <p:nvSpPr>
          <p:cNvPr id="170" name="TextBox 3"/>
          <p:cNvSpPr/>
          <p:nvPr/>
        </p:nvSpPr>
        <p:spPr>
          <a:xfrm>
            <a:off x="152280" y="1650960"/>
            <a:ext cx="3175200" cy="394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Students have taken </a:t>
            </a:r>
            <a:r>
              <a:rPr b="0" lang="en-CA" sz="2300" spc="-1" strike="noStrike">
                <a:solidFill>
                  <a:srgbClr val="800080"/>
                </a:solidFill>
                <a:latin typeface="Comic Sans MS - 24"/>
              </a:rPr>
              <a:t>a vote on the new official school colours for sports uniforms.  The number of votes for each colour is shown.  Which measure of central tendency would you use to decide the winning colour?</a:t>
            </a:r>
            <a:endParaRPr b="0" lang="en-US" sz="2300" spc="-1" strike="noStrike">
              <a:solidFill>
                <a:srgbClr val="000000"/>
              </a:solidFill>
              <a:latin typeface="Calibri"/>
            </a:endParaRPr>
          </a:p>
        </p:txBody>
      </p:sp>
      <p:sp>
        <p:nvSpPr>
          <p:cNvPr id="171" name="TextBox 4"/>
          <p:cNvSpPr/>
          <p:nvPr/>
        </p:nvSpPr>
        <p:spPr>
          <a:xfrm>
            <a:off x="3162240" y="4902120"/>
            <a:ext cx="1727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7  4 1  5 0 6 10</a:t>
            </a:r>
            <a:endParaRPr b="0" lang="en-US" sz="1500" spc="-1" strike="noStrike">
              <a:solidFill>
                <a:srgbClr val="000000"/>
              </a:solidFill>
              <a:latin typeface="Calibri"/>
            </a:endParaRPr>
          </a:p>
        </p:txBody>
      </p:sp>
      <p:sp>
        <p:nvSpPr>
          <p:cNvPr id="172" name="TextBox 5"/>
          <p:cNvSpPr/>
          <p:nvPr/>
        </p:nvSpPr>
        <p:spPr>
          <a:xfrm>
            <a:off x="8597880" y="4952880"/>
            <a:ext cx="1575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 16"/>
              </a:rPr>
              <a:t>V  I  B G Y O 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304920" y="165240"/>
            <a:ext cx="744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3: Compare Median and Mean</a:t>
            </a:r>
            <a:endParaRPr b="0" lang="en-US" sz="3600" spc="-1" strike="noStrike">
              <a:solidFill>
                <a:srgbClr val="000000"/>
              </a:solidFill>
              <a:latin typeface="Calibri"/>
            </a:endParaRPr>
          </a:p>
        </p:txBody>
      </p:sp>
      <p:sp>
        <p:nvSpPr>
          <p:cNvPr id="174" name="TextBox 2"/>
          <p:cNvSpPr/>
          <p:nvPr/>
        </p:nvSpPr>
        <p:spPr>
          <a:xfrm>
            <a:off x="266760" y="977760"/>
            <a:ext cx="9194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Suki paid the following amounts for her last six pairs of jeans before tax:</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44, $38, $45, $49, $125, $5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are the median and the mean jean pri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ich measure of central tendency best describes these data?</a:t>
            </a:r>
            <a:endParaRPr b="0" lang="en-US" sz="2400" spc="-1" strike="noStrike">
              <a:solidFill>
                <a:srgbClr val="000000"/>
              </a:solidFill>
              <a:latin typeface="Calibri"/>
            </a:endParaRPr>
          </a:p>
        </p:txBody>
      </p:sp>
      <p:sp>
        <p:nvSpPr>
          <p:cNvPr id="175" name="TextBox 3"/>
          <p:cNvSpPr/>
          <p:nvPr/>
        </p:nvSpPr>
        <p:spPr>
          <a:xfrm>
            <a:off x="1003320" y="73407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median, because it is more central to the data.  The mean is affected by the outlier and is therefore not the best ch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1"/>
          <p:cNvSpPr/>
          <p:nvPr/>
        </p:nvSpPr>
        <p:spPr>
          <a:xfrm>
            <a:off x="304920" y="6336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p:txBody>
      </p:sp>
      <p:sp>
        <p:nvSpPr>
          <p:cNvPr id="177" name="TextBox 2"/>
          <p:cNvSpPr/>
          <p:nvPr/>
        </p:nvSpPr>
        <p:spPr>
          <a:xfrm>
            <a:off x="291960" y="851040"/>
            <a:ext cx="899172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Symbol - 24"/>
              </a:rPr>
              <a:t>·</a:t>
            </a:r>
            <a:r>
              <a:rPr b="0" lang="en-US" sz="2300" spc="-1" strike="noStrike">
                <a:solidFill>
                  <a:srgbClr val="800080"/>
                </a:solidFill>
                <a:latin typeface="Comic Sans MS - 24"/>
              </a:rPr>
              <a:t>The </a:t>
            </a:r>
            <a:r>
              <a:rPr b="1" lang="en-US" sz="2300" spc="-1" strike="noStrike" u="sng">
                <a:solidFill>
                  <a:srgbClr val="800080"/>
                </a:solidFill>
                <a:uFillTx/>
                <a:latin typeface="Comic Sans MS - 24"/>
              </a:rPr>
              <a:t>mode</a:t>
            </a:r>
            <a:r>
              <a:rPr b="0" lang="en-CA" sz="2300" spc="-1" strike="noStrike">
                <a:solidFill>
                  <a:srgbClr val="800080"/>
                </a:solidFill>
                <a:latin typeface="Comic Sans MS - 24"/>
              </a:rPr>
              <a:t> is the best measure of central tendency for data that represents  frequency of choice (</a:t>
            </a:r>
            <a:r>
              <a:rPr b="1" lang="en-CA" sz="2300" spc="-1" strike="noStrike" u="sng">
                <a:solidFill>
                  <a:srgbClr val="800080"/>
                </a:solidFill>
                <a:uFillTx/>
                <a:latin typeface="Comic Sans MS - 24"/>
              </a:rPr>
              <a:t>most popular choice</a:t>
            </a:r>
            <a:r>
              <a:rPr b="0" lang="en-CA" sz="2300" spc="-1" strike="noStrike">
                <a:solidFill>
                  <a:srgbClr val="800080"/>
                </a:solidFill>
                <a:latin typeface="Comic Sans MS - 24"/>
              </a:rPr>
              <a:t>) such as favourite colour, clothing and shoe sizes, or most popular musical grou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f all the numbers in a set of data are relatively </a:t>
            </a:r>
            <a:r>
              <a:rPr b="1" lang="en-CA" sz="2300" spc="-1" strike="noStrike" u="sng">
                <a:solidFill>
                  <a:srgbClr val="800080"/>
                </a:solidFill>
                <a:uFillTx/>
                <a:latin typeface="Comic Sans MS - 24"/>
              </a:rPr>
              <a:t>close together</a:t>
            </a:r>
            <a:r>
              <a:rPr b="0" lang="en-CA" sz="2300" spc="-1" strike="noStrike">
                <a:solidFill>
                  <a:srgbClr val="800080"/>
                </a:solidFill>
                <a:latin typeface="Comic Sans MS - 24"/>
              </a:rPr>
              <a:t>, either the </a:t>
            </a:r>
            <a:r>
              <a:rPr b="1" lang="en-CA" sz="2300" spc="-1" strike="noStrike" u="sng">
                <a:solidFill>
                  <a:srgbClr val="800080"/>
                </a:solidFill>
                <a:uFillTx/>
                <a:latin typeface="Comic Sans MS - 24"/>
              </a:rPr>
              <a:t>median or mean</a:t>
            </a:r>
            <a:r>
              <a:rPr b="0" lang="en-CA" sz="2300" spc="-1" strike="noStrike">
                <a:solidFill>
                  <a:srgbClr val="800080"/>
                </a:solidFill>
                <a:latin typeface="Comic Sans MS - 24"/>
              </a:rPr>
              <a:t> can be used as a measure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f a data set contains </a:t>
            </a:r>
            <a:r>
              <a:rPr b="1" lang="en-CA" sz="2300" spc="-1" strike="noStrike" u="sng">
                <a:solidFill>
                  <a:srgbClr val="800080"/>
                </a:solidFill>
                <a:uFillTx/>
                <a:latin typeface="Comic Sans MS - 24"/>
              </a:rPr>
              <a:t>unusually large or small numbers</a:t>
            </a:r>
            <a:r>
              <a:rPr b="0" lang="en-CA" sz="2300" spc="-1" strike="noStrike">
                <a:solidFill>
                  <a:srgbClr val="800080"/>
                </a:solidFill>
                <a:latin typeface="Comic Sans MS - 24"/>
              </a:rPr>
              <a:t> relative to the rest of the data, the </a:t>
            </a:r>
            <a:r>
              <a:rPr b="1" lang="en-CA" sz="2300" spc="-1" strike="noStrike" u="sng">
                <a:solidFill>
                  <a:srgbClr val="800080"/>
                </a:solidFill>
                <a:uFillTx/>
                <a:latin typeface="Comic Sans MS - 24"/>
              </a:rPr>
              <a:t>median</a:t>
            </a:r>
            <a:r>
              <a:rPr b="0" lang="en-CA" sz="2300" spc="-1" strike="noStrike">
                <a:solidFill>
                  <a:srgbClr val="800080"/>
                </a:solidFill>
                <a:latin typeface="Comic Sans MS - 24"/>
              </a:rPr>
              <a:t> is usually the best measure of central tendency.</a:t>
            </a:r>
            <a:endParaRPr b="0" lang="en-US" sz="2300" spc="-1" strike="noStrike">
              <a:solidFill>
                <a:srgbClr val="000000"/>
              </a:solidFill>
              <a:latin typeface="Calibri"/>
            </a:endParaRPr>
          </a:p>
        </p:txBody>
      </p:sp>
      <p:sp>
        <p:nvSpPr>
          <p:cNvPr id="178" name="TextBox 3"/>
          <p:cNvSpPr/>
          <p:nvPr/>
        </p:nvSpPr>
        <p:spPr>
          <a:xfrm>
            <a:off x="343080" y="5587920"/>
            <a:ext cx="5181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800080"/>
                </a:solidFill>
                <a:uFillTx/>
                <a:latin typeface="Comic Sans MS - 28"/>
              </a:rPr>
              <a:t>Assignment:</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800080"/>
                </a:solidFill>
                <a:uFillTx/>
                <a:latin typeface="Comic Sans MS - 28"/>
              </a:rPr>
              <a:t>p</a:t>
            </a:r>
            <a:r>
              <a:rPr b="0" lang="en-CA" sz="2700" spc="-1" strike="noStrike">
                <a:solidFill>
                  <a:srgbClr val="800080"/>
                </a:solidFill>
                <a:latin typeface="Comic Sans MS - 28"/>
              </a:rPr>
              <a:t>. 449, #1-4, 6, 9, MathLink</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Still Good? #8, 10</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Pro Star? #11-1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6"/>
          <p:cNvGrpSpPr/>
          <p:nvPr/>
        </p:nvGrpSpPr>
        <p:grpSpPr>
          <a:xfrm>
            <a:off x="63360" y="0"/>
            <a:ext cx="10007640" cy="9354600"/>
            <a:chOff x="63360" y="0"/>
            <a:chExt cx="10007640" cy="9354600"/>
          </a:xfrm>
        </p:grpSpPr>
        <p:grpSp>
          <p:nvGrpSpPr>
            <p:cNvPr id="47" name="Group 4"/>
            <p:cNvGrpSpPr/>
            <p:nvPr/>
          </p:nvGrpSpPr>
          <p:grpSpPr>
            <a:xfrm>
              <a:off x="63360" y="0"/>
              <a:ext cx="10007640" cy="8180280"/>
              <a:chOff x="63360" y="0"/>
              <a:chExt cx="10007640" cy="8180280"/>
            </a:xfrm>
          </p:grpSpPr>
          <p:sp>
            <p:nvSpPr>
              <p:cNvPr id="48" name="TextBox 1"/>
              <p:cNvSpPr/>
              <p:nvPr/>
            </p:nvSpPr>
            <p:spPr>
              <a:xfrm>
                <a:off x="63360" y="0"/>
                <a:ext cx="10007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1: Determine the Mode and Media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O</a:t>
                </a:r>
                <a:r>
                  <a:rPr b="0" lang="en-CA" sz="2400" spc="-1" strike="noStrike">
                    <a:solidFill>
                      <a:srgbClr val="800080"/>
                    </a:solidFill>
                    <a:latin typeface="Comic Sans MS - 24"/>
                  </a:rPr>
                  <a:t>ne month, the Edmonton Oilers won 7 out of 10 gam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s a team, they scored the following number of goals in these 10 gam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5, 4, 3, 2, 1, 5, 3, 3, 7, 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mode for the number of goal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is the median number of goals scored?</a:t>
                </a:r>
                <a:endParaRPr b="0" lang="en-US" sz="2400" spc="-1" strike="noStrike">
                  <a:solidFill>
                    <a:srgbClr val="000000"/>
                  </a:solidFill>
                  <a:latin typeface="Calibri"/>
                </a:endParaRPr>
              </a:p>
            </p:txBody>
          </p:sp>
          <p:sp>
            <p:nvSpPr>
              <p:cNvPr id="49" name="TextBox 2"/>
              <p:cNvSpPr/>
              <p:nvPr/>
            </p:nvSpPr>
            <p:spPr>
              <a:xfrm>
                <a:off x="520560" y="3530520"/>
                <a:ext cx="6019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Arrange the numbers in increasing ord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a:t>
                </a:r>
                <a:r>
                  <a:rPr b="0" lang="en-US" sz="1600" spc="-1" strike="noStrike" u="sng">
                    <a:solidFill>
                      <a:srgbClr val="0000ff"/>
                    </a:solidFill>
                    <a:uFillTx/>
                    <a:latin typeface="Comic Sans MS - 16"/>
                  </a:rPr>
                  <a:t>mode</a:t>
                </a:r>
                <a:r>
                  <a:rPr b="0" lang="en-CA" sz="1600" spc="-1" strike="noStrike">
                    <a:solidFill>
                      <a:srgbClr val="0000ff"/>
                    </a:solidFill>
                    <a:latin typeface="Comic Sans MS - 16"/>
                  </a:rPr>
                  <a:t> is the most frequently occurring number in the list.</a:t>
                </a:r>
                <a:endParaRPr b="0" lang="en-US" sz="1600" spc="-1" strike="noStrike">
                  <a:solidFill>
                    <a:srgbClr val="000000"/>
                  </a:solidFill>
                  <a:latin typeface="Calibri"/>
                </a:endParaRPr>
              </a:p>
            </p:txBody>
          </p:sp>
          <p:sp>
            <p:nvSpPr>
              <p:cNvPr id="50" name="TextBox 3"/>
              <p:cNvSpPr/>
              <p:nvPr/>
            </p:nvSpPr>
            <p:spPr>
              <a:xfrm>
                <a:off x="482400" y="5803920"/>
                <a:ext cx="853452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Arrange the numbers in increasing order.  The </a:t>
                </a:r>
                <a:r>
                  <a:rPr b="0" lang="en-CA" sz="1500" spc="-1" strike="noStrike" u="sng">
                    <a:solidFill>
                      <a:srgbClr val="0000ff"/>
                    </a:solidFill>
                    <a:uFillTx/>
                    <a:latin typeface="Comic Sans MS - 16"/>
                  </a:rPr>
                  <a:t>median</a:t>
                </a:r>
                <a:r>
                  <a:rPr b="0" lang="en-CA" sz="1500" spc="-1" strike="noStrike">
                    <a:solidFill>
                      <a:srgbClr val="0000ff"/>
                    </a:solidFill>
                    <a:latin typeface="Comic Sans MS - 16"/>
                  </a:rPr>
                  <a:t> is the middle number.  Cross off pairs of least and greatest values until you reach the middle one or two number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If one number remains, then it is the </a:t>
                </a:r>
                <a:r>
                  <a:rPr b="0" lang="en-CA" sz="1500" spc="-1" strike="noStrike" u="sng">
                    <a:solidFill>
                      <a:srgbClr val="0000ff"/>
                    </a:solidFill>
                    <a:uFillTx/>
                    <a:latin typeface="Comic Sans MS - 16"/>
                  </a:rPr>
                  <a:t>median</a:t>
                </a:r>
                <a:r>
                  <a:rPr b="0" lang="en-CA" sz="1500" spc="-1" strike="noStrike">
                    <a:solidFill>
                      <a:srgbClr val="0000ff"/>
                    </a:solidFill>
                    <a:latin typeface="Comic Sans MS - 16"/>
                  </a:rPr>
                  <a:t> val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If two numbers remain, then you must find the value halfway between  them.  In this case, since the two numbers are both 3,  the median is 3.  Notice that both the mode and median are 3 in this example.  The mode and median will sometimes be the same value, but not always.</a:t>
                </a:r>
                <a:endParaRPr b="0" lang="en-US" sz="1500" spc="-1" strike="noStrike">
                  <a:solidFill>
                    <a:srgbClr val="000000"/>
                  </a:solidFill>
                  <a:latin typeface="Calibri"/>
                </a:endParaRPr>
              </a:p>
            </p:txBody>
          </p:sp>
        </p:grpSp>
        <p:sp>
          <p:nvSpPr>
            <p:cNvPr id="51" name="TextBox 5"/>
            <p:cNvSpPr/>
            <p:nvPr/>
          </p:nvSpPr>
          <p:spPr>
            <a:xfrm>
              <a:off x="1028520" y="8712000"/>
              <a:ext cx="71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Try Show You Know on p. 426?</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180"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39680" y="38160"/>
            <a:ext cx="9626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Determine the Mode and Median From a Frequency Table</a:t>
            </a:r>
            <a:endParaRPr b="0" lang="en-US" sz="3600" spc="-1" strike="noStrike">
              <a:solidFill>
                <a:srgbClr val="000000"/>
              </a:solidFill>
              <a:latin typeface="Calibri"/>
            </a:endParaRPr>
          </a:p>
        </p:txBody>
      </p:sp>
      <p:sp>
        <p:nvSpPr>
          <p:cNvPr id="53" name="TextBox 2"/>
          <p:cNvSpPr/>
          <p:nvPr/>
        </p:nvSpPr>
        <p:spPr>
          <a:xfrm>
            <a:off x="152280" y="1460520"/>
            <a:ext cx="942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frequency table shows the hourly wages of employees at a recycling depot.</a:t>
            </a:r>
            <a:endParaRPr b="0" lang="en-US" sz="2400" spc="-1" strike="noStrike">
              <a:solidFill>
                <a:srgbClr val="000000"/>
              </a:solidFill>
              <a:latin typeface="Calibri"/>
            </a:endParaRPr>
          </a:p>
        </p:txBody>
      </p:sp>
      <p:graphicFrame>
        <p:nvGraphicFramePr>
          <p:cNvPr id="54" name=""/>
          <p:cNvGraphicFramePr/>
          <p:nvPr/>
        </p:nvGraphicFramePr>
        <p:xfrm>
          <a:off x="1523880" y="2540160"/>
          <a:ext cx="7112160" cy="2539800"/>
        </p:xfrm>
        <a:graphic>
          <a:graphicData uri="http://schemas.openxmlformats.org/drawingml/2006/table">
            <a:tbl>
              <a:tblPr/>
              <a:tblGrid>
                <a:gridCol w="3556080"/>
                <a:gridCol w="35560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Hourly Wage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Employe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55" name="TextBox 4"/>
          <p:cNvSpPr/>
          <p:nvPr/>
        </p:nvSpPr>
        <p:spPr>
          <a:xfrm>
            <a:off x="139680" y="5219640"/>
            <a:ext cx="889020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mode for the hourly wa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at is the median wa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How would the mode and median  be affected if one employee gets a raise from $10 per hour to $11 per hour?</a:t>
            </a:r>
            <a:endParaRPr b="0" lang="en-US" sz="2300" spc="-1" strike="noStrike">
              <a:solidFill>
                <a:srgbClr val="000000"/>
              </a:solidFill>
              <a:latin typeface="Calibri"/>
            </a:endParaRPr>
          </a:p>
        </p:txBody>
      </p:sp>
      <p:sp>
        <p:nvSpPr>
          <p:cNvPr id="56" name="TextBox 5"/>
          <p:cNvSpPr/>
          <p:nvPr/>
        </p:nvSpPr>
        <p:spPr>
          <a:xfrm>
            <a:off x="482760" y="5600880"/>
            <a:ext cx="97786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Method 1: List the Values in Orde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R</a:t>
            </a:r>
            <a:r>
              <a:rPr b="0" lang="en-CA" sz="1500" spc="-1" strike="noStrike">
                <a:solidFill>
                  <a:srgbClr val="0000ff"/>
                </a:solidFill>
                <a:latin typeface="Comic Sans MS - 16"/>
              </a:rPr>
              <a:t>ecord the hourly wages, in dollars, for each employee in increasing orde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Method</a:t>
            </a:r>
            <a:r>
              <a:rPr b="1" i="1" lang="en-CA" sz="1500" spc="-1" strike="noStrike">
                <a:solidFill>
                  <a:srgbClr val="0000ff"/>
                </a:solidFill>
                <a:latin typeface="Comic Sans MS - 16"/>
              </a:rPr>
              <a:t> 2: Use the Frequency Tabl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F</a:t>
            </a:r>
            <a:r>
              <a:rPr b="0" lang="en-CA" sz="1500" spc="-1" strike="noStrike">
                <a:solidFill>
                  <a:srgbClr val="0000ff"/>
                </a:solidFill>
                <a:latin typeface="Comic Sans MS - 16"/>
              </a:rPr>
              <a:t>rom the frequency table, you can determine the mode by looking at the numbers in the second column.  The highest number is 3.  It corresponds to 3 people who earn $8 and 3 people who earn $11.  So, there are two modes: $8 and $11.</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12600" y="177840"/>
            <a:ext cx="104396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Key Idea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T</a:t>
            </a:r>
            <a:r>
              <a:rPr b="0" lang="en-US" sz="2400" spc="-1" strike="noStrike">
                <a:solidFill>
                  <a:srgbClr val="800080"/>
                </a:solidFill>
                <a:latin typeface="Comic Sans MS - 24"/>
              </a:rPr>
              <a:t>he </a:t>
            </a:r>
            <a:r>
              <a:rPr b="0" lang="en-US" sz="2400" spc="-1" strike="noStrike" u="sng">
                <a:solidFill>
                  <a:srgbClr val="800080"/>
                </a:solidFill>
                <a:uFillTx/>
                <a:latin typeface="Comic Sans MS - 24"/>
              </a:rPr>
              <a:t>mode</a:t>
            </a:r>
            <a:r>
              <a:rPr b="0" lang="en-US" sz="2400" spc="-1" strike="noStrike">
                <a:solidFill>
                  <a:srgbClr val="800080"/>
                </a:solidFill>
                <a:latin typeface="Comic Sans MS - 24"/>
              </a:rPr>
              <a:t> is the </a:t>
            </a:r>
            <a:r>
              <a:rPr b="0" lang="en-US" sz="2400" spc="-1" strike="noStrike" u="sng">
                <a:solidFill>
                  <a:srgbClr val="800080"/>
                </a:solidFill>
                <a:uFillTx/>
                <a:latin typeface="Comic Sans MS - 24"/>
              </a:rPr>
              <a:t>most</a:t>
            </a:r>
            <a:r>
              <a:rPr b="0" lang="en-CA" sz="2400" spc="-1" strike="noStrike">
                <a:solidFill>
                  <a:srgbClr val="800080"/>
                </a:solidFill>
                <a:latin typeface="Comic Sans MS - 24"/>
              </a:rPr>
              <a:t> frequently occurring number in a set of dat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If no number repeats, there is no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1, 2, 3, 4, 5 -&gt; No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re can be more than one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CA" sz="2400" spc="-1" strike="noStrike">
                <a:solidFill>
                  <a:srgbClr val="800080"/>
                </a:solidFill>
                <a:latin typeface="Comic Sans MS - 24"/>
              </a:rPr>
              <a:t>1, 1, 2, 2, 3 -&gt; 2 modes: 1 and 2 (bimoda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The </a:t>
            </a:r>
            <a:r>
              <a:rPr b="0" lang="en-US" sz="2400" spc="-1" strike="noStrike" u="sng">
                <a:solidFill>
                  <a:srgbClr val="800080"/>
                </a:solidFill>
                <a:uFillTx/>
                <a:latin typeface="Comic Sans MS - 24"/>
              </a:rPr>
              <a:t>median</a:t>
            </a:r>
            <a:r>
              <a:rPr b="0" lang="en-US" sz="2400" spc="-1" strike="noStrike">
                <a:solidFill>
                  <a:srgbClr val="800080"/>
                </a:solidFill>
                <a:latin typeface="Comic Sans MS - 24"/>
              </a:rPr>
              <a:t> is the </a:t>
            </a:r>
            <a:r>
              <a:rPr b="0" lang="en-US" sz="2400" spc="-1" strike="noStrike" u="sng">
                <a:solidFill>
                  <a:srgbClr val="800080"/>
                </a:solidFill>
                <a:uFillTx/>
                <a:latin typeface="Comic Sans MS - 24"/>
              </a:rPr>
              <a:t>middle</a:t>
            </a:r>
            <a:r>
              <a:rPr b="0" lang="en-CA" sz="2400" spc="-1" strike="noStrike">
                <a:solidFill>
                  <a:srgbClr val="800080"/>
                </a:solidFill>
                <a:latin typeface="Comic Sans MS - 24"/>
              </a:rPr>
              <a:t> value in a set of data after the numbers have been arranged in ord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1, 2, 3, 4, 5 -&gt; Median is 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If there is an even number of data values, then the median is the value halfway between the two numb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2, 4, 6, 8, 10, 12</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 median here is the value halfway between 6 and 8, which is 7.</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median does not have to be a number in the set of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279360" y="279360"/>
            <a:ext cx="523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Assign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p</a:t>
            </a:r>
            <a:r>
              <a:rPr b="0" lang="en-CA" sz="2400" spc="-1" strike="noStrike">
                <a:solidFill>
                  <a:srgbClr val="800080"/>
                </a:solidFill>
                <a:latin typeface="Comic Sans MS - 24"/>
              </a:rPr>
              <a:t>. 426, #1-4, 6, 8, 10, 11, MathLin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Still Good? #12</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Pro Star? # 13-1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203040" y="50760"/>
            <a:ext cx="2870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12.2: Mean</a:t>
            </a:r>
            <a:endParaRPr b="0" lang="en-US" sz="3500" spc="-1" strike="noStrike">
              <a:solidFill>
                <a:srgbClr val="000000"/>
              </a:solidFill>
              <a:latin typeface="Calibri"/>
            </a:endParaRPr>
          </a:p>
        </p:txBody>
      </p:sp>
      <p:sp>
        <p:nvSpPr>
          <p:cNvPr id="60" name="TextBox 2"/>
          <p:cNvSpPr/>
          <p:nvPr/>
        </p:nvSpPr>
        <p:spPr>
          <a:xfrm>
            <a:off x="216000" y="762120"/>
            <a:ext cx="970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80"/>
                </a:solidFill>
                <a:uFillTx/>
                <a:latin typeface="Comic Sans MS - 24"/>
              </a:rPr>
              <a:t>In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00080"/>
                </a:solidFill>
                <a:uFillTx/>
                <a:latin typeface="Comic Sans MS - 24"/>
              </a:rPr>
              <a:t>E</a:t>
            </a:r>
            <a:r>
              <a:rPr b="0" lang="en-CA" sz="2400" spc="-1" strike="noStrike">
                <a:solidFill>
                  <a:srgbClr val="800080"/>
                </a:solidFill>
                <a:latin typeface="Comic Sans MS - 24"/>
              </a:rPr>
              <a:t>arly in the school year, Melanie and Amir had the exact same scores on five weekly math quizzes.  Their scores out of 10 were 8, 9, 4, 5, 9.  Their teacher asked them to report on a single score that best summarizes their progress in math.</a:t>
            </a:r>
            <a:endParaRPr b="0" lang="en-US" sz="2400" spc="-1" strike="noStrike">
              <a:solidFill>
                <a:srgbClr val="000000"/>
              </a:solidFill>
              <a:latin typeface="Calibri"/>
            </a:endParaRPr>
          </a:p>
        </p:txBody>
      </p:sp>
      <p:sp>
        <p:nvSpPr>
          <p:cNvPr id="61" name="TextBox 3"/>
          <p:cNvSpPr/>
          <p:nvPr/>
        </p:nvSpPr>
        <p:spPr>
          <a:xfrm>
            <a:off x="419040" y="3530520"/>
            <a:ext cx="30481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mir decides to use the median:</a:t>
            </a:r>
            <a:endParaRPr b="0" lang="en-US" sz="2300" spc="-1" strike="noStrike">
              <a:solidFill>
                <a:srgbClr val="000000"/>
              </a:solidFill>
              <a:latin typeface="Calibri"/>
            </a:endParaRPr>
          </a:p>
        </p:txBody>
      </p:sp>
      <p:sp>
        <p:nvSpPr>
          <p:cNvPr id="62" name="TextBox 4"/>
          <p:cNvSpPr/>
          <p:nvPr/>
        </p:nvSpPr>
        <p:spPr>
          <a:xfrm>
            <a:off x="5423040" y="3568680"/>
            <a:ext cx="3378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lanie decides to use the mode:</a:t>
            </a:r>
            <a:endParaRPr b="0" lang="en-US" sz="2300" spc="-1" strike="noStrike">
              <a:solidFill>
                <a:srgbClr val="000000"/>
              </a:solidFill>
              <a:latin typeface="Calibri"/>
            </a:endParaRPr>
          </a:p>
        </p:txBody>
      </p:sp>
      <p:sp>
        <p:nvSpPr>
          <p:cNvPr id="63" name="TextBox 5"/>
          <p:cNvSpPr/>
          <p:nvPr/>
        </p:nvSpPr>
        <p:spPr>
          <a:xfrm>
            <a:off x="393840" y="6019920"/>
            <a:ext cx="515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Who do you think is right?  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88920" y="139680"/>
            <a:ext cx="9499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mir and Melanie's teacher was not satisfied with the way Amir and Melanie calculated their math  midterm reports.  She did not feel that the median and mode provided a correct view of their performances.  Their teacher asked the students to explore another way of representing the centre of the data.</a:t>
            </a:r>
            <a:endParaRPr b="0" lang="en-US" sz="2400" spc="-1" strike="noStrike">
              <a:solidFill>
                <a:srgbClr val="000000"/>
              </a:solidFill>
              <a:latin typeface="Calibri"/>
            </a:endParaRPr>
          </a:p>
        </p:txBody>
      </p:sp>
      <p:grpSp>
        <p:nvGrpSpPr>
          <p:cNvPr id="65" name="Group 14"/>
          <p:cNvGrpSpPr/>
          <p:nvPr/>
        </p:nvGrpSpPr>
        <p:grpSpPr>
          <a:xfrm>
            <a:off x="301680" y="4187880"/>
            <a:ext cx="380880" cy="465120"/>
            <a:chOff x="301680" y="4187880"/>
            <a:chExt cx="380880" cy="465120"/>
          </a:xfrm>
        </p:grpSpPr>
        <p:sp>
          <p:nvSpPr>
            <p:cNvPr id="66" name="Freeform 2"/>
            <p:cNvSpPr/>
            <p:nvPr/>
          </p:nvSpPr>
          <p:spPr>
            <a:xfrm>
              <a:off x="302040" y="4188600"/>
              <a:ext cx="58680" cy="120600"/>
            </a:xfrm>
            <a:custGeom>
              <a:avLst/>
              <a:gdLst>
                <a:gd name="textAreaLeft" fmla="*/ 0 w 58680"/>
                <a:gd name="textAreaRight" fmla="*/ 59040 w 58680"/>
                <a:gd name="textAreaTop" fmla="*/ 0 h 120600"/>
                <a:gd name="textAreaBottom" fmla="*/ 120960 h 120600"/>
              </a:gdLst>
              <a:ahLst/>
              <a:rect l="textAreaLeft" t="textAreaTop" r="textAreaRight" b="textAreaBottom"/>
              <a:pathLst>
                <a:path w="58547" h="120524">
                  <a:moveTo>
                    <a:pt x="58546" y="128"/>
                  </a:moveTo>
                  <a:lnTo>
                    <a:pt x="58546" y="120523"/>
                  </a:lnTo>
                  <a:lnTo>
                    <a:pt x="0" y="120523"/>
                  </a:lnTo>
                  <a:lnTo>
                    <a:pt x="0" y="119507"/>
                  </a:lnTo>
                  <a:lnTo>
                    <a:pt x="5842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3"/>
            <p:cNvSpPr/>
            <p:nvPr/>
          </p:nvSpPr>
          <p:spPr>
            <a:xfrm>
              <a:off x="360720" y="4188240"/>
              <a:ext cx="321480" cy="120960"/>
            </a:xfrm>
            <a:custGeom>
              <a:avLst/>
              <a:gdLst>
                <a:gd name="textAreaLeft" fmla="*/ 0 w 321480"/>
                <a:gd name="textAreaRight" fmla="*/ 321840 w 321480"/>
                <a:gd name="textAreaTop" fmla="*/ 0 h 120960"/>
                <a:gd name="textAreaBottom" fmla="*/ 121320 h 120960"/>
              </a:gdLst>
              <a:ahLst/>
              <a:rect l="textAreaLeft" t="textAreaTop" r="textAreaRight" b="textAreaBottom"/>
              <a:pathLst>
                <a:path w="321058" h="120905">
                  <a:moveTo>
                    <a:pt x="254" y="0"/>
                  </a:moveTo>
                  <a:lnTo>
                    <a:pt x="321057" y="0"/>
                  </a:lnTo>
                  <a:lnTo>
                    <a:pt x="321057" y="381"/>
                  </a:lnTo>
                  <a:lnTo>
                    <a:pt x="262128" y="120904"/>
                  </a:lnTo>
                  <a:lnTo>
                    <a:pt x="262002" y="120904"/>
                  </a:lnTo>
                  <a:lnTo>
                    <a:pt x="0" y="120904"/>
                  </a:lnTo>
                  <a:lnTo>
                    <a:pt x="0" y="509"/>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Freeform 4"/>
            <p:cNvSpPr/>
            <p:nvPr/>
          </p:nvSpPr>
          <p:spPr>
            <a:xfrm>
              <a:off x="301680" y="4309200"/>
              <a:ext cx="59040" cy="343440"/>
            </a:xfrm>
            <a:custGeom>
              <a:avLst/>
              <a:gdLst>
                <a:gd name="textAreaLeft" fmla="*/ 0 w 59040"/>
                <a:gd name="textAreaRight" fmla="*/ 59400 w 59040"/>
                <a:gd name="textAreaTop" fmla="*/ 0 h 343440"/>
                <a:gd name="textAreaBottom" fmla="*/ 343800 h 343440"/>
              </a:gdLst>
              <a:ahLst/>
              <a:rect l="textAreaLeft" t="textAreaTop" r="textAreaRight" b="textAreaBottom"/>
              <a:pathLst>
                <a:path w="59183" h="343156">
                  <a:moveTo>
                    <a:pt x="127" y="0"/>
                  </a:moveTo>
                  <a:lnTo>
                    <a:pt x="636" y="0"/>
                  </a:lnTo>
                  <a:lnTo>
                    <a:pt x="59182" y="0"/>
                  </a:lnTo>
                  <a:lnTo>
                    <a:pt x="59182" y="222632"/>
                  </a:lnTo>
                  <a:lnTo>
                    <a:pt x="0" y="343155"/>
                  </a:lnTo>
                  <a:lnTo>
                    <a:pt x="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5"/>
            <p:cNvSpPr/>
            <p:nvPr/>
          </p:nvSpPr>
          <p:spPr>
            <a:xfrm>
              <a:off x="623520" y="4188600"/>
              <a:ext cx="59040" cy="343440"/>
            </a:xfrm>
            <a:custGeom>
              <a:avLst/>
              <a:gdLst>
                <a:gd name="textAreaLeft" fmla="*/ 0 w 59040"/>
                <a:gd name="textAreaRight" fmla="*/ 59400 w 59040"/>
                <a:gd name="textAreaTop" fmla="*/ 0 h 343440"/>
                <a:gd name="textAreaBottom" fmla="*/ 343800 h 343440"/>
              </a:gdLst>
              <a:ahLst/>
              <a:rect l="textAreaLeft" t="textAreaTop" r="textAreaRight" b="textAreaBottom"/>
              <a:pathLst>
                <a:path w="59183" h="343156">
                  <a:moveTo>
                    <a:pt x="126" y="120523"/>
                  </a:moveTo>
                  <a:lnTo>
                    <a:pt x="59055" y="0"/>
                  </a:lnTo>
                  <a:lnTo>
                    <a:pt x="59182" y="343155"/>
                  </a:lnTo>
                  <a:lnTo>
                    <a:pt x="0" y="343155"/>
                  </a:lnTo>
                  <a:lnTo>
                    <a:pt x="0" y="120523"/>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6"/>
            <p:cNvSpPr/>
            <p:nvPr/>
          </p:nvSpPr>
          <p:spPr>
            <a:xfrm>
              <a:off x="360720" y="4309200"/>
              <a:ext cx="262440" cy="222840"/>
            </a:xfrm>
            <a:custGeom>
              <a:avLst/>
              <a:gdLst>
                <a:gd name="textAreaLeft" fmla="*/ 0 w 262440"/>
                <a:gd name="textAreaRight" fmla="*/ 262800 w 262440"/>
                <a:gd name="textAreaTop" fmla="*/ 0 h 222840"/>
                <a:gd name="textAreaBottom" fmla="*/ 223200 h 222840"/>
              </a:gdLst>
              <a:ahLst/>
              <a:rect l="textAreaLeft" t="textAreaTop" r="textAreaRight" b="textAreaBottom"/>
              <a:pathLst>
                <a:path w="262003" h="222633">
                  <a:moveTo>
                    <a:pt x="262002" y="0"/>
                  </a:moveTo>
                  <a:lnTo>
                    <a:pt x="262002" y="222632"/>
                  </a:lnTo>
                  <a:lnTo>
                    <a:pt x="0" y="222632"/>
                  </a:lnTo>
                  <a:lnTo>
                    <a:pt x="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Freeform 7"/>
            <p:cNvSpPr/>
            <p:nvPr/>
          </p:nvSpPr>
          <p:spPr>
            <a:xfrm>
              <a:off x="623520" y="4532400"/>
              <a:ext cx="59040" cy="120600"/>
            </a:xfrm>
            <a:custGeom>
              <a:avLst/>
              <a:gdLst>
                <a:gd name="textAreaLeft" fmla="*/ 0 w 59040"/>
                <a:gd name="textAreaRight" fmla="*/ 59400 w 59040"/>
                <a:gd name="textAreaTop" fmla="*/ 0 h 120600"/>
                <a:gd name="textAreaBottom" fmla="*/ 120960 h 120600"/>
              </a:gdLst>
              <a:ahLst/>
              <a:rect l="textAreaLeft" t="textAreaTop" r="textAreaRight" b="textAreaBottom"/>
              <a:pathLst>
                <a:path w="59183" h="120524">
                  <a:moveTo>
                    <a:pt x="0" y="120523"/>
                  </a:moveTo>
                  <a:lnTo>
                    <a:pt x="0" y="0"/>
                  </a:lnTo>
                  <a:lnTo>
                    <a:pt x="59182"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Freeform 8"/>
            <p:cNvSpPr/>
            <p:nvPr/>
          </p:nvSpPr>
          <p:spPr>
            <a:xfrm>
              <a:off x="301680" y="4532400"/>
              <a:ext cx="321840" cy="120600"/>
            </a:xfrm>
            <a:custGeom>
              <a:avLst/>
              <a:gdLst>
                <a:gd name="textAreaLeft" fmla="*/ 0 w 321840"/>
                <a:gd name="textAreaRight" fmla="*/ 322200 w 321840"/>
                <a:gd name="textAreaTop" fmla="*/ 0 h 120600"/>
                <a:gd name="textAreaBottom" fmla="*/ 120960 h 120600"/>
              </a:gdLst>
              <a:ahLst/>
              <a:rect l="textAreaLeft" t="textAreaTop" r="textAreaRight" b="textAreaBottom"/>
              <a:pathLst>
                <a:path w="321185" h="120524">
                  <a:moveTo>
                    <a:pt x="321184" y="120523"/>
                  </a:moveTo>
                  <a:lnTo>
                    <a:pt x="0" y="120523"/>
                  </a:lnTo>
                  <a:lnTo>
                    <a:pt x="59182" y="0"/>
                  </a:lnTo>
                  <a:lnTo>
                    <a:pt x="321184"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Freeform 9"/>
            <p:cNvSpPr/>
            <p:nvPr/>
          </p:nvSpPr>
          <p:spPr>
            <a:xfrm>
              <a:off x="361440" y="4187880"/>
              <a:ext cx="360" cy="1080"/>
            </a:xfrm>
            <a:custGeom>
              <a:avLst/>
              <a:gdLst>
                <a:gd name="textAreaLeft" fmla="*/ 0 w 360"/>
                <a:gd name="textAreaRight" fmla="*/ 720 w 360"/>
                <a:gd name="textAreaTop" fmla="*/ 0 h 1080"/>
                <a:gd name="textAreaBottom" fmla="*/ 1440 h 1080"/>
              </a:gdLst>
              <a:ahLst/>
              <a:rect l="textAreaLeft" t="textAreaTop" r="textAreaRight" b="textAreaBottom"/>
              <a:pathLst>
                <a:path w="1" h="1271">
                  <a:moveTo>
                    <a:pt x="0" y="1270"/>
                  </a:moveTo>
                  <a:lnTo>
                    <a:pt x="0" y="0"/>
                  </a:lnTo>
                  <a:lnTo>
                    <a:pt x="0" y="0"/>
                  </a:lnTo>
                  <a:lnTo>
                    <a:pt x="0" y="0"/>
                  </a:lnTo>
                  <a:lnTo>
                    <a:pt x="0" y="0"/>
                  </a:lnTo>
                  <a:close/>
                </a:path>
              </a:pathLst>
            </a:custGeom>
            <a:noFill/>
            <a:ln w="252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74" name="Freeform 10"/>
            <p:cNvSpPr/>
            <p:nvPr/>
          </p:nvSpPr>
          <p:spPr>
            <a:xfrm>
              <a:off x="301680" y="4308480"/>
              <a:ext cx="321840" cy="344520"/>
            </a:xfrm>
            <a:custGeom>
              <a:avLst/>
              <a:gdLst>
                <a:gd name="textAreaLeft" fmla="*/ 0 w 321840"/>
                <a:gd name="textAreaRight" fmla="*/ 321840 w 321840"/>
                <a:gd name="textAreaTop" fmla="*/ 0 h 344520"/>
                <a:gd name="textAreaBottom" fmla="*/ 344880 h 344520"/>
              </a:gdLst>
              <a:ahLst/>
              <a:rect l="textAreaLeft" t="textAreaTop" r="textAreaRight" b="textAreaBottom"/>
              <a:pathLst>
                <a:path w="321311" h="344171">
                  <a:moveTo>
                    <a:pt x="321310" y="1270"/>
                  </a:moveTo>
                  <a:lnTo>
                    <a:pt x="321310" y="223520"/>
                  </a:lnTo>
                  <a:lnTo>
                    <a:pt x="321310" y="344170"/>
                  </a:lnTo>
                  <a:lnTo>
                    <a:pt x="0" y="344170"/>
                  </a:lnTo>
                  <a:lnTo>
                    <a:pt x="0" y="1270"/>
                  </a:lnTo>
                  <a:lnTo>
                    <a:pt x="0" y="0"/>
                  </a:lnTo>
                  <a:lnTo>
                    <a:pt x="1270" y="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Freeform 11"/>
            <p:cNvSpPr/>
            <p:nvPr/>
          </p:nvSpPr>
          <p:spPr>
            <a:xfrm>
              <a:off x="301680" y="4308480"/>
              <a:ext cx="321840" cy="1080"/>
            </a:xfrm>
            <a:custGeom>
              <a:avLst/>
              <a:gdLst>
                <a:gd name="textAreaLeft" fmla="*/ 0 w 321840"/>
                <a:gd name="textAreaRight" fmla="*/ 321840 w 321840"/>
                <a:gd name="textAreaTop" fmla="*/ 0 h 1080"/>
                <a:gd name="textAreaBottom" fmla="*/ 1440 h 1080"/>
              </a:gdLst>
              <a:ahLst/>
              <a:rect l="textAreaLeft" t="textAreaTop" r="textAreaRight" b="textAreaBottom"/>
              <a:pathLst>
                <a:path w="321311" h="1271">
                  <a:moveTo>
                    <a:pt x="321310" y="1270"/>
                  </a:moveTo>
                  <a:lnTo>
                    <a:pt x="59691" y="1270"/>
                  </a:lnTo>
                  <a:lnTo>
                    <a:pt x="1270" y="1270"/>
                  </a:lnTo>
                  <a:lnTo>
                    <a:pt x="0" y="1270"/>
                  </a:lnTo>
                  <a:lnTo>
                    <a:pt x="1270" y="0"/>
                  </a:lnTo>
                </a:path>
              </a:pathLst>
            </a:custGeom>
            <a:noFill/>
            <a:ln w="252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76" name="Freeform 12"/>
            <p:cNvSpPr/>
            <p:nvPr/>
          </p:nvSpPr>
          <p:spPr>
            <a:xfrm>
              <a:off x="623520" y="4188960"/>
              <a:ext cx="58320" cy="464040"/>
            </a:xfrm>
            <a:custGeom>
              <a:avLst/>
              <a:gdLst>
                <a:gd name="textAreaLeft" fmla="*/ 0 w 58320"/>
                <a:gd name="textAreaRight" fmla="*/ 58680 w 58320"/>
                <a:gd name="textAreaTop" fmla="*/ 0 h 464040"/>
                <a:gd name="textAreaBottom" fmla="*/ 464400 h 464040"/>
              </a:gdLst>
              <a:ahLst/>
              <a:rect l="textAreaLeft" t="textAreaTop" r="textAreaRight" b="textAreaBottom"/>
              <a:pathLst>
                <a:path w="58422" h="463551">
                  <a:moveTo>
                    <a:pt x="58421" y="0"/>
                  </a:moveTo>
                  <a:lnTo>
                    <a:pt x="58421" y="342900"/>
                  </a:lnTo>
                  <a:lnTo>
                    <a:pt x="0" y="46355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13"/>
            <p:cNvSpPr/>
            <p:nvPr/>
          </p:nvSpPr>
          <p:spPr>
            <a:xfrm>
              <a:off x="302760" y="4187880"/>
              <a:ext cx="379080" cy="122040"/>
            </a:xfrm>
            <a:custGeom>
              <a:avLst/>
              <a:gdLst>
                <a:gd name="textAreaLeft" fmla="*/ 0 w 379080"/>
                <a:gd name="textAreaRight" fmla="*/ 379440 w 379080"/>
                <a:gd name="textAreaTop" fmla="*/ 0 h 122040"/>
                <a:gd name="textAreaBottom" fmla="*/ 122400 h 122040"/>
              </a:gdLst>
              <a:ahLst/>
              <a:rect l="textAreaLeft" t="textAreaTop" r="textAreaRight" b="textAreaBottom"/>
              <a:pathLst>
                <a:path w="378462" h="121921">
                  <a:moveTo>
                    <a:pt x="0" y="120650"/>
                  </a:moveTo>
                  <a:lnTo>
                    <a:pt x="57150" y="1270"/>
                  </a:lnTo>
                  <a:lnTo>
                    <a:pt x="58421" y="0"/>
                  </a:lnTo>
                  <a:lnTo>
                    <a:pt x="58421" y="0"/>
                  </a:lnTo>
                  <a:lnTo>
                    <a:pt x="378461" y="0"/>
                  </a:lnTo>
                  <a:lnTo>
                    <a:pt x="378461" y="0"/>
                  </a:lnTo>
                  <a:lnTo>
                    <a:pt x="378461" y="1270"/>
                  </a:lnTo>
                  <a:lnTo>
                    <a:pt x="320040" y="121920"/>
                  </a:lnTo>
                  <a:lnTo>
                    <a:pt x="320040" y="12192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8" name="TextBox 15"/>
          <p:cNvSpPr/>
          <p:nvPr/>
        </p:nvSpPr>
        <p:spPr>
          <a:xfrm>
            <a:off x="50760" y="2730600"/>
            <a:ext cx="94233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uild a tower that represents each score that Amir and Melanie received on their weekly math quizzes: 4, 5, 8, 9, 9.  A tower 4 cubes high represents a score of 4 out of 10.</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Box 1"/>
          <p:cNvSpPr/>
          <p:nvPr/>
        </p:nvSpPr>
        <p:spPr>
          <a:xfrm>
            <a:off x="254160" y="355680"/>
            <a:ext cx="276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Key Term:</a:t>
            </a:r>
            <a:endParaRPr b="0" lang="en-US" sz="3600" spc="-1" strike="noStrike">
              <a:solidFill>
                <a:srgbClr val="000000"/>
              </a:solidFill>
              <a:latin typeface="Calibri"/>
            </a:endParaRPr>
          </a:p>
        </p:txBody>
      </p:sp>
      <p:sp>
        <p:nvSpPr>
          <p:cNvPr id="80" name="TextBox 2"/>
          <p:cNvSpPr/>
          <p:nvPr/>
        </p:nvSpPr>
        <p:spPr>
          <a:xfrm>
            <a:off x="355680" y="1295280"/>
            <a:ext cx="523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Me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a measure of central tendenc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 sum of a set of values divided by the number of values in the se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for example: Mean = </a:t>
            </a:r>
            <a:r>
              <a:rPr b="0" lang="en-US" sz="2400" spc="-1" strike="noStrike" u="sng">
                <a:solidFill>
                  <a:srgbClr val="800080"/>
                </a:solidFill>
                <a:uFillTx/>
                <a:latin typeface="Comic Sans MS - 24"/>
              </a:rPr>
              <a:t>6 + 8 + 4</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80"/>
                </a:solidFill>
                <a:uFillTx/>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5:34Z</dcterms:created>
  <dc:creator>fraser kerr</dc:creator>
  <dc:description/>
  <dc:language>en-US</dc:language>
  <cp:lastModifiedBy>fraser kerr</cp:lastModifiedBy>
  <dcterms:modified xsi:type="dcterms:W3CDTF">2010-06-16T17:05:58Z</dcterms:modified>
  <cp:revision>1</cp:revision>
  <dc:subject/>
  <dc:title>Slide 1</dc:title>
</cp:coreProperties>
</file>